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4" descr="blue"/>
          <p:cNvPicPr/>
          <p:nvPr/>
        </p:nvPicPr>
        <p:blipFill>
          <a:blip r:embed="rId2"/>
          <a:stretch/>
        </p:blipFill>
        <p:spPr>
          <a:xfrm>
            <a:off x="-9360" y="0"/>
            <a:ext cx="9162720" cy="68724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3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solidFill>
            <a:srgbClr val="5a6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8" name="Rectangle 4"/>
          <p:cNvSpPr/>
          <p:nvPr/>
        </p:nvSpPr>
        <p:spPr>
          <a:xfrm>
            <a:off x="0" y="1052640"/>
            <a:ext cx="9153360" cy="72720"/>
          </a:xfrm>
          <a:prstGeom prst="rect">
            <a:avLst/>
          </a:prstGeom>
          <a:solidFill>
            <a:srgbClr val="939b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0" name="Rectangle 7"/>
          <p:cNvSpPr/>
          <p:nvPr/>
        </p:nvSpPr>
        <p:spPr>
          <a:xfrm flipV="1">
            <a:off x="0" y="691200"/>
            <a:ext cx="9144000" cy="215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1" name="Rectangle 8"/>
          <p:cNvSpPr/>
          <p:nvPr/>
        </p:nvSpPr>
        <p:spPr>
          <a:xfrm flipV="1">
            <a:off x="0" y="907560"/>
            <a:ext cx="9144000" cy="144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2" name="Rectangle 9"/>
          <p:cNvSpPr/>
          <p:nvPr/>
        </p:nvSpPr>
        <p:spPr>
          <a:xfrm flipV="1">
            <a:off x="-36000" y="1052280"/>
            <a:ext cx="9144000" cy="72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3" name="Rectangle 10"/>
          <p:cNvSpPr/>
          <p:nvPr/>
        </p:nvSpPr>
        <p:spPr>
          <a:xfrm flipV="1">
            <a:off x="0" y="6381000"/>
            <a:ext cx="915336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" name="Rectangle 11">
            <a:hlinkClick r:id="rId3"/>
          </p:cNvPr>
          <p:cNvSpPr/>
          <p:nvPr/>
        </p:nvSpPr>
        <p:spPr>
          <a:xfrm>
            <a:off x="7458120" y="645156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  <a:ea typeface="HY견고딕"/>
              </a:rPr>
              <a:t>www.art-com.co.kr</a:t>
            </a:r>
            <a:endParaRPr b="0" lang="en-US" sz="12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5" name="Text Box 12">
            <a:hlinkClick r:id="rId4"/>
          </p:cNvPr>
          <p:cNvSpPr/>
          <p:nvPr/>
        </p:nvSpPr>
        <p:spPr>
          <a:xfrm>
            <a:off x="109080" y="6504120"/>
            <a:ext cx="2146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HY견고딕"/>
                <a:ea typeface="HY견고딕"/>
              </a:rPr>
              <a:t>Copyright 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  <a:ea typeface="HY견고딕"/>
              </a:rPr>
              <a:t>©</a:t>
            </a:r>
            <a:r>
              <a:rPr b="0" lang="en-US" sz="700" spc="-1" strike="noStrike">
                <a:solidFill>
                  <a:srgbClr val="b2b2b2"/>
                </a:solidFill>
                <a:latin typeface="HY견고딕"/>
                <a:ea typeface="HY견고딕"/>
              </a:rPr>
              <a:t> by ARTCOM PT  All rights reserved.</a:t>
            </a:r>
            <a:endParaRPr b="0" lang="en-US" sz="7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6558120"/>
            <a:ext cx="2786040" cy="276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지역산업기술개발사업</a:t>
            </a:r>
            <a:r>
              <a:rPr b="0" lang="en-US" sz="12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 지원안내 </a:t>
            </a:r>
            <a:endParaRPr b="0" lang="en-US" sz="12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643800" y="6548400"/>
            <a:ext cx="25002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</a:rPr>
              <a:t>경상남도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</a:rPr>
              <a:t>· </a:t>
            </a:r>
            <a:r>
              <a:rPr b="0" lang="ko-KR" sz="1400" spc="-1" strike="noStrike">
                <a:solidFill>
                  <a:srgbClr val="ffffff"/>
                </a:solidFill>
                <a:latin typeface="HY헤드라인M"/>
              </a:rPr>
              <a:t>경남테크노파크</a:t>
            </a:r>
            <a:r>
              <a:rPr b="0" lang="ko-KR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4286160" y="6500880"/>
            <a:ext cx="100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- </a:t>
            </a:r>
            <a:fld id="{3D22B1E2-2F22-4AA8-986E-40F18B8F1057}" type="slidenum"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 -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9" name="Picture 18" descr="CI-세로조합(높이300)"/>
          <p:cNvPicPr/>
          <p:nvPr/>
        </p:nvPicPr>
        <p:blipFill>
          <a:blip r:embed="rId5"/>
          <a:srcRect l="0" t="0" r="0" b="30688"/>
          <a:stretch/>
        </p:blipFill>
        <p:spPr>
          <a:xfrm>
            <a:off x="7740720" y="127080"/>
            <a:ext cx="1008000" cy="492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9"/>
          <p:cNvSpPr/>
          <p:nvPr/>
        </p:nvSpPr>
        <p:spPr>
          <a:xfrm>
            <a:off x="7862760" y="60660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둥근헤드라인"/>
                <a:ea typeface="휴먼둥근헤드라인"/>
              </a:rPr>
              <a:t>경남테크노파크</a:t>
            </a:r>
            <a:endParaRPr b="0" lang="en-US" sz="1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gnria.webhard.co.kr/" TargetMode="External"/><Relationship Id="rId2" Type="http://schemas.openxmlformats.org/officeDocument/2006/relationships/hyperlink" Target="http://www.gnria.or.kr/" TargetMode="External"/><Relationship Id="rId3" Type="http://schemas.openxmlformats.org/officeDocument/2006/relationships/hyperlink" Target="http://www.gnria.or.kr/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7"/>
          <p:cNvSpPr/>
          <p:nvPr/>
        </p:nvSpPr>
        <p:spPr>
          <a:xfrm flipH="1">
            <a:off x="3923640" y="6165720"/>
            <a:ext cx="5219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00"/>
                </a:solidFill>
                <a:latin typeface="HY헤드라인M"/>
              </a:rPr>
              <a:t>경남테크노파크 지역산업평가단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HY헤드라인M"/>
              </a:rPr>
              <a:t>&lt;2010.9&gt;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835280" y="907920"/>
            <a:ext cx="69912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cc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HY헤드라인M"/>
              </a:rPr>
              <a:t>지역산업기술개발사업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cc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HY헤드라인M"/>
              <a:ea typeface="HY헤드라인M"/>
            </a:endParaRPr>
          </a:p>
        </p:txBody>
      </p:sp>
      <p:pic>
        <p:nvPicPr>
          <p:cNvPr id="91" name="WordArt 5" descr=""/>
          <p:cNvPicPr/>
          <p:nvPr/>
        </p:nvPicPr>
        <p:blipFill>
          <a:blip r:embed="rId2"/>
          <a:stretch/>
        </p:blipFill>
        <p:spPr>
          <a:xfrm>
            <a:off x="3773520" y="2054160"/>
            <a:ext cx="51325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0" y="793800"/>
            <a:ext cx="8933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굴림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57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58" name="AutoShape 1077"/>
          <p:cNvSpPr/>
          <p:nvPr/>
        </p:nvSpPr>
        <p:spPr>
          <a:xfrm>
            <a:off x="498600" y="1500120"/>
            <a:ext cx="8288280" cy="4714920"/>
          </a:xfrm>
          <a:prstGeom prst="roundRect">
            <a:avLst>
              <a:gd name="adj" fmla="val 3852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예산규모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14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억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과제당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억원 이내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/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내 지원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개발기간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내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도비지원 기준 및 민간부담현금 부담비율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※”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”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‘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기본법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’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시행령 제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조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 범위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에서 정한 기업을 말함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※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주관기관의 경우 당해 기술개발사업 수행을 위해 공고일 당해 연도 시작일로부터 접수마감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전까지 신규로 학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석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박사인력을 채용한 경우 접수마감일 이후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신규로 채용할 경우 인건비는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현금으로 산정 가능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ffcc00"/>
                </a:solidFill>
                <a:latin typeface="HY헤드라인M"/>
              </a:rPr>
              <a:t>기술료</a:t>
            </a:r>
            <a:r>
              <a:rPr b="0" lang="en-US" sz="1400" spc="-1" strike="noStrike">
                <a:solidFill>
                  <a:srgbClr val="ffcc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ffcc00"/>
                </a:solidFill>
                <a:latin typeface="HY헤드라인M"/>
              </a:rPr>
              <a:t>정액기술료</a:t>
            </a:r>
            <a:r>
              <a:rPr b="0" lang="en-US" sz="1400" spc="-1" strike="noStrike">
                <a:solidFill>
                  <a:srgbClr val="ffcc00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개발사업 종료 후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“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성공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”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으로 평가된 경우 총 지원 도비의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20%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를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간 균등분할 납부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59" name="Picture 19" descr="009---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69880" y="1847880"/>
            <a:ext cx="144360" cy="14292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20"/>
          <p:cNvGrpSpPr/>
          <p:nvPr/>
        </p:nvGrpSpPr>
        <p:grpSpPr>
          <a:xfrm>
            <a:off x="295200" y="1360440"/>
            <a:ext cx="1656000" cy="425520"/>
            <a:chOff x="295200" y="1360440"/>
            <a:chExt cx="1656000" cy="425520"/>
          </a:xfrm>
        </p:grpSpPr>
        <p:sp>
          <p:nvSpPr>
            <p:cNvPr id="261" name="AutoShape 21"/>
            <p:cNvSpPr/>
            <p:nvPr/>
          </p:nvSpPr>
          <p:spPr>
            <a:xfrm>
              <a:off x="295200" y="1360440"/>
              <a:ext cx="165600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62" name="Text Box 22"/>
            <p:cNvSpPr/>
            <p:nvPr/>
          </p:nvSpPr>
          <p:spPr>
            <a:xfrm>
              <a:off x="573120" y="1368360"/>
              <a:ext cx="108108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지원내역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263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85880" y="5500800"/>
          <a:ext cx="7858080" cy="658800"/>
        </p:xfrm>
        <a:graphic>
          <a:graphicData uri="http://schemas.openxmlformats.org/drawingml/2006/table">
            <a:tbl>
              <a:tblPr/>
              <a:tblGrid>
                <a:gridCol w="2116080"/>
                <a:gridCol w="3622680"/>
                <a:gridCol w="2119320"/>
              </a:tblGrid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주관기관 유형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술료율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비 고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중소기업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27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0101"/>
                          </a:solidFill>
                          <a:latin typeface="휴먼명조"/>
                        </a:rPr>
                        <a:t>총 지원 도비의 </a:t>
                      </a:r>
                      <a:r>
                        <a:rPr b="1" lang="en-US" sz="1200" spc="-1" strike="noStrike">
                          <a:solidFill>
                            <a:srgbClr val="ff0101"/>
                          </a:solidFill>
                          <a:latin typeface="휴먼명조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정액기술료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67" name="Picture 19" descr="009---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58720" y="2057400"/>
            <a:ext cx="146160" cy="14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9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54040" y="227160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81040" y="5064120"/>
            <a:ext cx="14436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642960" y="2500200"/>
          <a:ext cx="7858080" cy="1357560"/>
        </p:xfrm>
        <a:graphic>
          <a:graphicData uri="http://schemas.openxmlformats.org/drawingml/2006/table">
            <a:tbl>
              <a:tblPr/>
              <a:tblGrid>
                <a:gridCol w="1357200"/>
                <a:gridCol w="3357720"/>
                <a:gridCol w="1785960"/>
                <a:gridCol w="1357200"/>
              </a:tblGrid>
              <a:tr h="328680"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주관기관 유형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술개발 참여기업 구성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도비지원기준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민간부담금 현금비율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611280">
                <a:tc rowSpan="2"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중소기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단독개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업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개인 경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공동개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업 중 중소기업비율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2/3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총사업비의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75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내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민간부담금의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공동개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업 중 중소기업비율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2/3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총사업비의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내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1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0" y="793800"/>
            <a:ext cx="8933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굴림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4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5" name="AutoShape 1077"/>
          <p:cNvSpPr/>
          <p:nvPr/>
        </p:nvSpPr>
        <p:spPr>
          <a:xfrm>
            <a:off x="498600" y="1571760"/>
            <a:ext cx="8288280" cy="4643280"/>
          </a:xfrm>
          <a:prstGeom prst="roundRect">
            <a:avLst>
              <a:gd name="adj" fmla="val 3852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9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사업비 구성</a:t>
            </a:r>
            <a:r>
              <a:rPr b="0" lang="ko-KR" sz="1800" spc="-1" strike="noStrike">
                <a:solidFill>
                  <a:srgbClr val="ff0066"/>
                </a:solidFill>
                <a:latin typeface="HY헤드라인M"/>
              </a:rPr>
              <a:t>예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단위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천원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cc00"/>
                </a:solidFill>
                <a:latin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술료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정액기술료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구성</a:t>
            </a:r>
            <a:r>
              <a:rPr b="0" lang="ko-KR" sz="1800" spc="-1" strike="noStrike">
                <a:solidFill>
                  <a:srgbClr val="ff0066"/>
                </a:solidFill>
                <a:latin typeface="HY헤드라인M"/>
              </a:rPr>
              <a:t>예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단위 천원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 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도비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75,000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천원일 경우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6" name="AutoShape 21"/>
          <p:cNvSpPr/>
          <p:nvPr/>
        </p:nvSpPr>
        <p:spPr>
          <a:xfrm>
            <a:off x="250920" y="907920"/>
            <a:ext cx="3097080" cy="576360"/>
          </a:xfrm>
          <a:prstGeom prst="flowChartTerminator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826920" y="981000"/>
            <a:ext cx="1800360" cy="432000"/>
          </a:xfrm>
          <a:prstGeom prst="rect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사업비 구성예제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4360" y="4797360"/>
          <a:ext cx="7488000" cy="1008000"/>
        </p:xfrm>
        <a:graphic>
          <a:graphicData uri="http://schemas.openxmlformats.org/drawingml/2006/table">
            <a:tbl>
              <a:tblPr/>
              <a:tblGrid>
                <a:gridCol w="2116080"/>
                <a:gridCol w="1628640"/>
                <a:gridCol w="1800360"/>
                <a:gridCol w="194292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정액 기술료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30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일 이내 납부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1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년 이내 납부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3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년  분할납부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5,000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27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40% </a:t>
                      </a:r>
                      <a:r>
                        <a:rPr b="1" lang="ko-KR" sz="16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감면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27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30% </a:t>
                      </a:r>
                      <a:r>
                        <a:rPr b="1" lang="ko-KR" sz="16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감면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감면없이 분할납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82" name="Picture 19" descr="009---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9640" y="1844640"/>
            <a:ext cx="14472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611280" y="2205000"/>
          <a:ext cx="7530840" cy="1152720"/>
        </p:xfrm>
        <a:graphic>
          <a:graphicData uri="http://schemas.openxmlformats.org/drawingml/2006/table">
            <a:tbl>
              <a:tblPr/>
              <a:tblGrid>
                <a:gridCol w="1285920"/>
                <a:gridCol w="1420560"/>
                <a:gridCol w="1584360"/>
                <a:gridCol w="1511280"/>
                <a:gridCol w="1728720"/>
              </a:tblGrid>
              <a:tr h="576360"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총사업비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도 비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75%)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민간부담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25%)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민간부담현물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민간부담현금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576360"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marL="127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75,0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이내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25,000 </a:t>
                      </a:r>
                      <a:r>
                        <a:rPr b="1" lang="ko-KR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이상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22,50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이내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2,500</a:t>
                      </a: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이상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4" name="Picture 19" descr="009---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9640" y="4437000"/>
            <a:ext cx="1447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95280" y="1658880"/>
            <a:ext cx="84247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87" name="AutoShape 1077"/>
          <p:cNvSpPr/>
          <p:nvPr/>
        </p:nvSpPr>
        <p:spPr>
          <a:xfrm>
            <a:off x="539640" y="1557360"/>
            <a:ext cx="8259840" cy="48243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817560" y="1844640"/>
            <a:ext cx="78976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HY헤드라인M"/>
              </a:rPr>
              <a:t>주관기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자 등록증 기준으로 사업장 소재지가 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경남지역에 위치한 접수 마감일 현재 창업한지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HY헤드라인M"/>
              </a:rPr>
              <a:t>1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년 이상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HY헤드라인M"/>
              </a:rPr>
              <a:t>(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직전년도 매출액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HY헤드라인M"/>
              </a:rPr>
              <a:t>300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억 미만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HY헤드라인M"/>
              </a:rPr>
              <a:t>)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의 공장등록증을 가진 중소기업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다만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소프트웨어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공업디자인서비스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제조서비스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소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제조업에 한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및 벤처기업은 등록된 공장을 보유하지 않아도 사업자등록증을 보유하고 있는 경우에는 주관기업이 가능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※ “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소기업”은 「상시종업원수가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50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인 이하」인 기업을 말함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89" name="Picture 12" descr="009----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74560" y="1785960"/>
            <a:ext cx="187560" cy="1872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3"/>
          <p:cNvGrpSpPr/>
          <p:nvPr/>
        </p:nvGrpSpPr>
        <p:grpSpPr>
          <a:xfrm>
            <a:off x="522360" y="1332000"/>
            <a:ext cx="1655640" cy="425520"/>
            <a:chOff x="522360" y="1332000"/>
            <a:chExt cx="1655640" cy="425520"/>
          </a:xfrm>
        </p:grpSpPr>
        <p:sp>
          <p:nvSpPr>
            <p:cNvPr id="291" name="AutoShape 34"/>
            <p:cNvSpPr/>
            <p:nvPr/>
          </p:nvSpPr>
          <p:spPr>
            <a:xfrm>
              <a:off x="522360" y="133200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92" name="Text Box 35"/>
            <p:cNvSpPr/>
            <p:nvPr/>
          </p:nvSpPr>
          <p:spPr>
            <a:xfrm>
              <a:off x="799920" y="133992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신청자격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293" name="AutoShape 5"/>
          <p:cNvSpPr/>
          <p:nvPr/>
        </p:nvSpPr>
        <p:spPr>
          <a:xfrm>
            <a:off x="971640" y="4221000"/>
            <a:ext cx="2952720" cy="43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사업장 소재지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: </a:t>
            </a: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경남지역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94" name="Text Box 35"/>
          <p:cNvSpPr/>
          <p:nvPr/>
        </p:nvSpPr>
        <p:spPr>
          <a:xfrm>
            <a:off x="900000" y="4869000"/>
            <a:ext cx="4967280" cy="368280"/>
          </a:xfrm>
          <a:prstGeom prst="rect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사업자 등록증 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+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공장등록증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보유 중소기업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4140360" y="4149720"/>
            <a:ext cx="4319280" cy="50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사업자 등록일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:   ~ 2009.10.15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96" name="Text Box 35"/>
          <p:cNvSpPr/>
          <p:nvPr/>
        </p:nvSpPr>
        <p:spPr>
          <a:xfrm>
            <a:off x="900000" y="5373720"/>
            <a:ext cx="7704360" cy="730440"/>
          </a:xfrm>
          <a:prstGeom prst="rect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사업자 등록증만 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보유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소프트웨어기업 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공업디자인 및 제조서비스 기업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,  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            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벤처기업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소기업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상시종업원 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50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인 이하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97" name="Picture 29" descr="009---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9640" y="436572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9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9640" y="4941720"/>
            <a:ext cx="289080" cy="284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39640" y="551664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95280" y="1658880"/>
            <a:ext cx="84247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03" name="AutoShape 1077"/>
          <p:cNvSpPr/>
          <p:nvPr/>
        </p:nvSpPr>
        <p:spPr>
          <a:xfrm>
            <a:off x="527040" y="1535040"/>
            <a:ext cx="8259840" cy="46800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817560" y="2060640"/>
            <a:ext cx="789768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HY헤드라인M"/>
              </a:rPr>
              <a:t>참여기업 </a:t>
            </a:r>
            <a:r>
              <a:rPr b="1" lang="en-US" sz="1400" spc="-1" strike="noStrike">
                <a:solidFill>
                  <a:srgbClr val="333399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지역 및 타 지역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수도권 포함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에 소재하는 접수마감일 현재 창업한지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상인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기업 또는 경남지역 및 타 지역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수도권 포함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에 소재하는 지역특화센터의 법인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테크노파크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지역기술혁신센터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학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비영리연구기관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다만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지역에 소재한 기업이 총 민간부담금의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50%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이상을 부담해야 함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 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* 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주관기업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주관기업이면서 동시에 참여기업이기도 함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.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주관기업이 총민간부담금의 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50%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이상을 부담하고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참여기업이 나머지를 부담하면 가능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위탁기관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지역 및 타 지역에 소재하는 대학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비영리연구기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지역특화센터의 법인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테크노파크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지역혁신센터 등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05" name="Picture 16" descr="009----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1280" y="364500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009----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1280" y="2133720"/>
            <a:ext cx="187200" cy="187200"/>
          </a:xfrm>
          <a:prstGeom prst="rect">
            <a:avLst/>
          </a:prstGeom>
          <a:ln w="0">
            <a:noFill/>
          </a:ln>
        </p:spPr>
      </p:pic>
      <p:grpSp>
        <p:nvGrpSpPr>
          <p:cNvPr id="307" name="Group 33"/>
          <p:cNvGrpSpPr/>
          <p:nvPr/>
        </p:nvGrpSpPr>
        <p:grpSpPr>
          <a:xfrm>
            <a:off x="522360" y="1332000"/>
            <a:ext cx="1655640" cy="425520"/>
            <a:chOff x="522360" y="1332000"/>
            <a:chExt cx="1655640" cy="425520"/>
          </a:xfrm>
        </p:grpSpPr>
        <p:sp>
          <p:nvSpPr>
            <p:cNvPr id="308" name="AutoShape 34"/>
            <p:cNvSpPr/>
            <p:nvPr/>
          </p:nvSpPr>
          <p:spPr>
            <a:xfrm>
              <a:off x="522360" y="133200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799920" y="133992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신청자격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aphicFrame>
        <p:nvGraphicFramePr>
          <p:cNvPr id="310" name=""/>
          <p:cNvGraphicFramePr/>
          <p:nvPr/>
        </p:nvGraphicFramePr>
        <p:xfrm>
          <a:off x="928800" y="5140440"/>
          <a:ext cx="7602480" cy="860400"/>
        </p:xfrm>
        <a:graphic>
          <a:graphicData uri="http://schemas.openxmlformats.org/drawingml/2006/table">
            <a:tbl>
              <a:tblPr/>
              <a:tblGrid>
                <a:gridCol w="1360440"/>
                <a:gridCol w="2270160"/>
                <a:gridCol w="2079360"/>
                <a:gridCol w="1892520"/>
              </a:tblGrid>
              <a:tr h="4968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사업공고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사업계획서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전산입력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사업계획서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서류접수</a:t>
                      </a:r>
                      <a:r>
                        <a:rPr b="1" lang="en-US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(</a:t>
                      </a: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기획단</a:t>
                      </a:r>
                      <a:r>
                        <a:rPr b="1" lang="en-US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)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선정평가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</a:tr>
              <a:tr h="3636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9.9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9900"/>
                          </a:solidFill>
                          <a:latin typeface="HY헤드라인M"/>
                        </a:rPr>
                        <a:t>10.11 ~ 10.12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9900"/>
                          </a:solidFill>
                          <a:latin typeface="HY헤드라인M"/>
                        </a:rPr>
                        <a:t>10.13 ~ 10.15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10</a:t>
                      </a:r>
                      <a:r>
                        <a:rPr b="0" lang="ko-KR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월 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~11</a:t>
                      </a:r>
                      <a:r>
                        <a:rPr b="0" lang="ko-KR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월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11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312" name="Group 50"/>
          <p:cNvGrpSpPr/>
          <p:nvPr/>
        </p:nvGrpSpPr>
        <p:grpSpPr>
          <a:xfrm>
            <a:off x="539640" y="4587840"/>
            <a:ext cx="1656000" cy="425520"/>
            <a:chOff x="539640" y="4587840"/>
            <a:chExt cx="1656000" cy="425520"/>
          </a:xfrm>
        </p:grpSpPr>
        <p:sp>
          <p:nvSpPr>
            <p:cNvPr id="313" name="AutoShape 51"/>
            <p:cNvSpPr/>
            <p:nvPr/>
          </p:nvSpPr>
          <p:spPr>
            <a:xfrm>
              <a:off x="539640" y="4587840"/>
              <a:ext cx="165600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314" name="Text Box 52"/>
            <p:cNvSpPr/>
            <p:nvPr/>
          </p:nvSpPr>
          <p:spPr>
            <a:xfrm>
              <a:off x="817560" y="4595760"/>
              <a:ext cx="108108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추진일정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95280" y="1658880"/>
            <a:ext cx="84247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17" name="AutoShape 1077"/>
          <p:cNvSpPr/>
          <p:nvPr/>
        </p:nvSpPr>
        <p:spPr>
          <a:xfrm>
            <a:off x="527040" y="1535040"/>
            <a:ext cx="8259840" cy="46800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826920" y="1989000"/>
            <a:ext cx="789804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신청서 교부기간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: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HY헤드라인M"/>
              </a:rPr>
              <a:t>2010. 9. 9(</a:t>
            </a:r>
            <a:r>
              <a:rPr b="0" lang="ko-KR" sz="1800" spc="-1" strike="noStrike" u="sng">
                <a:solidFill>
                  <a:srgbClr val="0000cc"/>
                </a:solidFill>
                <a:uFillTx/>
                <a:latin typeface="HY헤드라인M"/>
              </a:rPr>
              <a:t>목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HY헤드라인M"/>
              </a:rPr>
              <a:t>) ~ 10. 15(</a:t>
            </a:r>
            <a:r>
              <a:rPr b="0" lang="ko-KR" sz="1800" spc="-1" strike="noStrike" u="sng">
                <a:solidFill>
                  <a:srgbClr val="0000cc"/>
                </a:solidFill>
                <a:uFillTx/>
                <a:latin typeface="HY헤드라인M"/>
              </a:rPr>
              <a:t>금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신청서 교부 및 접수 안내 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: (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재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경남테크노파크 홈페이지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(www.gntp.or.kr</a:t>
            </a:r>
            <a:r>
              <a:rPr b="0" lang="en-US" sz="1600" spc="-1" strike="noStrike">
                <a:solidFill>
                  <a:srgbClr val="0070c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전산자료 제출기간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: 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2010. 10. 11(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월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) ~ 10. 12(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화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)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까지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HY헤드라인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제출방법 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: </a:t>
            </a:r>
            <a:r>
              <a:rPr b="0" lang="ko-KR" sz="1600" spc="-1" strike="noStrike">
                <a:solidFill>
                  <a:srgbClr val="ffcc00"/>
                </a:solidFill>
                <a:latin typeface="HY헤드라인M"/>
              </a:rPr>
              <a:t>웹하드 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http://gnria.webhard.co.kr</a:t>
            </a: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에 제출 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(id : gnria06  p/w 9876 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※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사업계획서 접수 마감 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3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일전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(2010. 10. 12)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까지 전산자료 제출을 완료하여야 하며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,    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전산자료 제출을 완료하지 않고 서류만 제출한 경우는 반려함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※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전산자료는 반드시 신청기관명으로 작성하여 제출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</a:rPr>
              <a:t>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신청서 접수기간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: 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2010. 10. 13(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수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) ~ 10. 15(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금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), 9:00 ~ 18:00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신청서 접수처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: </a:t>
            </a: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지역산업평가단에 직접제출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(</a:t>
            </a: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우편접수 안함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19" name="Picture 16" descr="009----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74560" y="3141720"/>
            <a:ext cx="187560" cy="187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009----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74560" y="2060640"/>
            <a:ext cx="187560" cy="1872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5"/>
          <p:cNvSpPr/>
          <p:nvPr/>
        </p:nvSpPr>
        <p:spPr>
          <a:xfrm>
            <a:off x="914400" y="1339920"/>
            <a:ext cx="2300400" cy="368280"/>
          </a:xfrm>
          <a:prstGeom prst="rect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신청서교부  및 접수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22" name="Picture 16" descr="009----3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01560" y="5084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6" descr="009----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14520" y="5661000"/>
            <a:ext cx="187200" cy="1872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26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327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328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329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우대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331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2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333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334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35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36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37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338" name="AutoShape 5"/>
          <p:cNvSpPr/>
          <p:nvPr/>
        </p:nvSpPr>
        <p:spPr>
          <a:xfrm>
            <a:off x="755640" y="2065320"/>
            <a:ext cx="7704000" cy="43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99"/>
                </a:solidFill>
                <a:latin typeface="HY헤드라인M"/>
              </a:rPr>
              <a:t>정부지원 연구사업에 기 지원받지 않은 기업이 주관기업으로 참여한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39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1384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5"/>
          <p:cNvSpPr/>
          <p:nvPr/>
        </p:nvSpPr>
        <p:spPr>
          <a:xfrm>
            <a:off x="755640" y="2643120"/>
            <a:ext cx="770400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경남지역 테크노파크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, RIC.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지역특화센터가 참여기관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혹은 장비를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6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개월한 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48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시간 이상 사용한 실적이 있는 경우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, 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입주기업이 주관기관으로 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신청한경우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임대차 계약서가 있는 경우에 한함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1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271476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5"/>
          <p:cNvSpPr/>
          <p:nvPr/>
        </p:nvSpPr>
        <p:spPr>
          <a:xfrm>
            <a:off x="755640" y="3768840"/>
            <a:ext cx="7704000" cy="44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지역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TP, RIC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지역특화센터에 입주한 기업이 주관기관으로 신청하는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3" name="Picture 31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890640" y="387504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5"/>
          <p:cNvSpPr/>
          <p:nvPr/>
        </p:nvSpPr>
        <p:spPr>
          <a:xfrm>
            <a:off x="779400" y="434340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4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 전략산업 분야 중 에너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환경기술 등이 융합된 녹색기술 연구개발 과제인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5" name="Picture 33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900000" y="444672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46" name="AutoShape 5"/>
          <p:cNvSpPr/>
          <p:nvPr/>
        </p:nvSpPr>
        <p:spPr>
          <a:xfrm>
            <a:off x="784080" y="4910040"/>
            <a:ext cx="7675560" cy="733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수행을 위해 공고일 당해연도 시작일로부터 접수마감일 전까지 신규로 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석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박사인력을 채용한 경우와 접수 마감일 이후 신규로 채용한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7" name="Picture 35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905040" y="4991040"/>
            <a:ext cx="288720" cy="28440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5"/>
          <p:cNvSpPr/>
          <p:nvPr/>
        </p:nvSpPr>
        <p:spPr>
          <a:xfrm>
            <a:off x="784080" y="5792760"/>
            <a:ext cx="767556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대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중견기업 포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또는 외국연구기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외국기업과 공동개발인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9" name="Picture 37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900000" y="585936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52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354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35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우대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35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8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359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360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61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62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63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364" name="AutoShape 5"/>
          <p:cNvSpPr/>
          <p:nvPr/>
        </p:nvSpPr>
        <p:spPr>
          <a:xfrm>
            <a:off x="755640" y="2071800"/>
            <a:ext cx="7704000" cy="44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외국연구기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외국기업과 공동개발사업인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65" name="Picture 31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90640" y="217800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5"/>
          <p:cNvSpPr/>
          <p:nvPr/>
        </p:nvSpPr>
        <p:spPr>
          <a:xfrm>
            <a:off x="779400" y="264636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창업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7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년 이내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접수마감일 기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생기업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67" name="Picture 33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274968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5"/>
          <p:cNvSpPr/>
          <p:nvPr/>
        </p:nvSpPr>
        <p:spPr>
          <a:xfrm>
            <a:off x="784080" y="4929120"/>
            <a:ext cx="767556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의 참여연구원 중 여성참여 연구원이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0%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이상인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69" name="Picture 37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900000" y="499572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785880" y="321480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일자리 창출 우수 인증기업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72" name="Picture 33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906480" y="331776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5"/>
          <p:cNvSpPr/>
          <p:nvPr/>
        </p:nvSpPr>
        <p:spPr>
          <a:xfrm>
            <a:off x="785880" y="379260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중소기업이 주관하는 산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산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산학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기업간 공동개발인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74" name="Picture 33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906480" y="389556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785880" y="436392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최근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이내에 최종평가시 우수사업으로 평가된 사업의 총괄책임자가 신청하는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76" name="Picture 33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906480" y="4467240"/>
            <a:ext cx="289080" cy="2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78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379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380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381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원제외 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383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4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385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386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87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88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89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390" name="AutoShape 5"/>
          <p:cNvSpPr/>
          <p:nvPr/>
        </p:nvSpPr>
        <p:spPr>
          <a:xfrm>
            <a:off x="755640" y="1994040"/>
            <a:ext cx="7704000" cy="1137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신청된 기술개발계획이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기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개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되었거나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기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지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※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중복성 검토 방법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  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1.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지역산업진흥사업 종합관리시스템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[http://rnd.risnet.or.kr]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검색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cc"/>
                </a:solidFill>
                <a:latin typeface="HY헤드라인M"/>
              </a:rPr>
              <a:t>  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2.</a:t>
            </a:r>
            <a:r>
              <a:rPr b="1" lang="en-US" sz="1500" spc="-1" strike="noStrike">
                <a:solidFill>
                  <a:srgbClr val="333399"/>
                </a:solidFill>
                <a:latin typeface="HY헤드라인M"/>
              </a:rPr>
              <a:t>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국가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R&amp;D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사업관리서비스</a:t>
            </a:r>
            <a:r>
              <a:rPr b="0" lang="en-US" sz="1500" spc="-1" strike="noStrike">
                <a:solidFill>
                  <a:srgbClr val="000066"/>
                </a:solidFill>
                <a:latin typeface="HY헤드라인M"/>
              </a:rPr>
              <a:t>[http://rndgate.ntis.go.kr)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검색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1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1384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5"/>
          <p:cNvSpPr/>
          <p:nvPr/>
        </p:nvSpPr>
        <p:spPr>
          <a:xfrm>
            <a:off x="755640" y="3238560"/>
            <a:ext cx="7704000" cy="41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의무사항 불이행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각종 보고서 미제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정산잔액 미납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술료 미납 등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3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335124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5"/>
          <p:cNvSpPr/>
          <p:nvPr/>
        </p:nvSpPr>
        <p:spPr>
          <a:xfrm>
            <a:off x="755640" y="3768840"/>
            <a:ext cx="7704000" cy="44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국가연구개발사업에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참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제한중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인 자 또는 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업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5" name="Picture 31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890640" y="387504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5"/>
          <p:cNvSpPr/>
          <p:nvPr/>
        </p:nvSpPr>
        <p:spPr>
          <a:xfrm>
            <a:off x="779400" y="434340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금융기관 등의 신용거래 불량자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7" name="Picture 33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900000" y="444672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5"/>
          <p:cNvSpPr/>
          <p:nvPr/>
        </p:nvSpPr>
        <p:spPr>
          <a:xfrm>
            <a:off x="784080" y="4910040"/>
            <a:ext cx="76755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전산 자료를 제출 하지 않고 사업계획서를 제출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9" name="Picture 35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905040" y="505152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5"/>
          <p:cNvSpPr/>
          <p:nvPr/>
        </p:nvSpPr>
        <p:spPr>
          <a:xfrm>
            <a:off x="784080" y="5435640"/>
            <a:ext cx="767556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사전검토에 의해 사전지원제외 대상으로 분류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01" name="Picture 37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900000" y="55134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04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05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406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407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감점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09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0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411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412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13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14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15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416" name="AutoShape 5"/>
          <p:cNvSpPr/>
          <p:nvPr/>
        </p:nvSpPr>
        <p:spPr>
          <a:xfrm>
            <a:off x="755640" y="2071800"/>
            <a:ext cx="77040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최종평가가 불성실 중단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불성실실패 과제의 총괄책임자가 새로운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과제를 시청하는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17" name="Picture 29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24316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5"/>
          <p:cNvSpPr/>
          <p:nvPr/>
        </p:nvSpPr>
        <p:spPr>
          <a:xfrm>
            <a:off x="755640" y="3100320"/>
            <a:ext cx="7704000" cy="94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과제 선정 후 정당한 사유 없이 협약 포기 경력이 있는 총괄책임자나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주관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참여기관 등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의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19" name="Picture 31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890640" y="327348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21" name="AutoShape 5"/>
          <p:cNvSpPr/>
          <p:nvPr/>
        </p:nvSpPr>
        <p:spPr>
          <a:xfrm>
            <a:off x="714240" y="4148280"/>
            <a:ext cx="7704360" cy="94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과제 수행도중 정당한 사유 없이 협약 포기 경력이 있는 총괄책임자나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주관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참여기관 등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의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22" name="Picture 31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849240" y="432108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5"/>
          <p:cNvSpPr/>
          <p:nvPr/>
        </p:nvSpPr>
        <p:spPr>
          <a:xfrm>
            <a:off x="714240" y="5200560"/>
            <a:ext cx="7704360" cy="94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[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하도급거래 공정화에 관한 법률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]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을 최근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내에 상습적으로 위반한 기업이 연구개발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과제를 신청할 때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그러한 위반 사실이 같은 법 제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26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조에 따른 공정거래위원회로부터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관계 행정기관의 장의 통보 등을 통하여 확인될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24" name="Picture 31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849240" y="5234040"/>
            <a:ext cx="289080" cy="2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26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27" name="Group 12"/>
          <p:cNvGrpSpPr/>
          <p:nvPr/>
        </p:nvGrpSpPr>
        <p:grpSpPr>
          <a:xfrm>
            <a:off x="324000" y="1143000"/>
            <a:ext cx="2675880" cy="603000"/>
            <a:chOff x="324000" y="1143000"/>
            <a:chExt cx="2675880" cy="603000"/>
          </a:xfrm>
        </p:grpSpPr>
        <p:grpSp>
          <p:nvGrpSpPr>
            <p:cNvPr id="428" name="Group 13"/>
            <p:cNvGrpSpPr/>
            <p:nvPr/>
          </p:nvGrpSpPr>
          <p:grpSpPr>
            <a:xfrm>
              <a:off x="609480" y="1143000"/>
              <a:ext cx="2390400" cy="532440"/>
              <a:chOff x="609480" y="1143000"/>
              <a:chExt cx="2390400" cy="532440"/>
            </a:xfrm>
          </p:grpSpPr>
          <p:pic>
            <p:nvPicPr>
              <p:cNvPr id="429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609480" y="1143000"/>
                <a:ext cx="2390400" cy="53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Text Box 2144"/>
              <p:cNvSpPr/>
              <p:nvPr/>
            </p:nvSpPr>
            <p:spPr>
              <a:xfrm>
                <a:off x="877680" y="1166760"/>
                <a:ext cx="18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전검토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31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181160"/>
              <a:ext cx="340200" cy="56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2" name="Group 33"/>
            <p:cNvGrpSpPr/>
            <p:nvPr/>
          </p:nvGrpSpPr>
          <p:grpSpPr>
            <a:xfrm>
              <a:off x="408960" y="1245600"/>
              <a:ext cx="220320" cy="432720"/>
              <a:chOff x="408960" y="1245600"/>
              <a:chExt cx="220320" cy="432720"/>
            </a:xfrm>
          </p:grpSpPr>
          <p:grpSp>
            <p:nvGrpSpPr>
              <p:cNvPr id="433" name="Group 34"/>
              <p:cNvGrpSpPr/>
              <p:nvPr/>
            </p:nvGrpSpPr>
            <p:grpSpPr>
              <a:xfrm>
                <a:off x="408960" y="1245600"/>
                <a:ext cx="220320" cy="281880"/>
                <a:chOff x="408960" y="1245600"/>
                <a:chExt cx="220320" cy="281880"/>
              </a:xfrm>
            </p:grpSpPr>
            <p:sp>
              <p:nvSpPr>
                <p:cNvPr id="434" name="Oval 35"/>
                <p:cNvSpPr/>
                <p:nvPr/>
              </p:nvSpPr>
              <p:spPr>
                <a:xfrm>
                  <a:off x="408960" y="1245600"/>
                  <a:ext cx="220320" cy="28188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35" name="Oval 36"/>
                <p:cNvSpPr/>
                <p:nvPr/>
              </p:nvSpPr>
              <p:spPr>
                <a:xfrm>
                  <a:off x="410400" y="1260000"/>
                  <a:ext cx="198720" cy="25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36" name="Oval 37"/>
                <p:cNvSpPr/>
                <p:nvPr/>
              </p:nvSpPr>
              <p:spPr>
                <a:xfrm>
                  <a:off x="435600" y="1260000"/>
                  <a:ext cx="151560" cy="15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37" name="Rectangle 38"/>
              <p:cNvSpPr/>
              <p:nvPr/>
            </p:nvSpPr>
            <p:spPr>
              <a:xfrm>
                <a:off x="423000" y="1256040"/>
                <a:ext cx="1090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graphicFrame>
        <p:nvGraphicFramePr>
          <p:cNvPr id="438" name=""/>
          <p:cNvGraphicFramePr/>
          <p:nvPr/>
        </p:nvGraphicFramePr>
        <p:xfrm>
          <a:off x="357120" y="1714680"/>
          <a:ext cx="8501040" cy="4816440"/>
        </p:xfrm>
        <a:graphic>
          <a:graphicData uri="http://schemas.openxmlformats.org/drawingml/2006/table">
            <a:tbl>
              <a:tblPr/>
              <a:tblGrid>
                <a:gridCol w="312840"/>
                <a:gridCol w="4402080"/>
                <a:gridCol w="3786120"/>
              </a:tblGrid>
              <a:tr h="225360">
                <a:tc>
                  <a:txBody>
                    <a:bodyPr lIns="8640" rIns="8640" tIns="8640" bIns="864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86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사전지원제외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사후관리 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14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9080">
                <a:tc>
                  <a:txBody>
                    <a:bodyPr lIns="8640" rIns="8640" tIns="8640" bIns="864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검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준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86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다음 각 호의 사항 중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개 이상에 해당할 경우 사전지원제외 대상으로 한다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업의 부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2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세무당국에 의하여 국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방세 등의 체납처분을 받은 경우 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3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민사집행법에 기하여 채무불이행자명부에 등재되거나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은행연합회 등 신용정보집중기관에 채무불이행자로 등록된 경우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4.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파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회생절차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인회생절차의 개시 신청이 이루어진 경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단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법원의 인가를 받은 회생계획 또는 변제계획에 따른 채무변제를 정상적으로 이행하고 있는 경우는 예외로 한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.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최근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2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년 결산 재무제표상 부채비율이 연속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0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인 기업 또는 유동비율이 연속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하인 기업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단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업신용평점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70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점 이상이거나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신용평가등급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'BBB'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인 경우 및 외국인투자촉진법에 따른 외국인투자기업 중 외국인투자비율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0%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이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업설립일로부터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년이 경과되지 않은 외국인투자기업은 예외로 한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.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자본전액잠식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6.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외부감사 기업의 경우 최근년도 감사의견이 “미반영” 또는 “부적정”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8640" marR="8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다음 각 호의 사항 중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2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개 이상에 해당할 경우 사후관리대상으로 한다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최근년도말 부채비율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30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2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최근년도말 유동비율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0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하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3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부분자본잠식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4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직전년도 이자보상비율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.0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배 미만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최근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3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년도 계속 영업이익 적자 기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6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외부감사 기업의 경우 최근년도 감사의견이 “한정”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8640" marR="8640">
                    <a:lnL w="14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0">
                <a:tc>
                  <a:txBody>
                    <a:bodyPr lIns="8640" rIns="8640" tIns="8640" bIns="864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조치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86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주관기관 또는 총괄책임자의 경우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-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정공모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: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탈락처리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-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자유공모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: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해당과제 지원제외 처리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관대표자의 경우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-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주관기관에 참여기관의 교체 또는 제외를 요청할 수 있으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체 또는 제외가 되지 않을 경우 탈락 또는 지원제외로 처리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접수마감일 이후 사전지원제외 기준에 해당하게 된 때에는 평가위원회에서 제외 여부를 심의할 수 있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.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8640" marR="8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신규선정평가시 평가위원회에 “사후관리대상”에 해당됨을 보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지원과제로 확정된 경우 “사후관리대상과제”로 등록하여 관리하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해당과제에 대한 진도점검시 해당기업 또는 해당자에 대해 재심사를 실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-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재심사 결과 “사전지원 제외” 대상에 해당된 경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현장조사 또는 평가위원회 심의를 거쳐 계속지원여부를 결정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8640" marR="8640">
                    <a:lnL w="14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3"/>
          <p:cNvGrpSpPr/>
          <p:nvPr/>
        </p:nvGrpSpPr>
        <p:grpSpPr>
          <a:xfrm>
            <a:off x="431640" y="1500120"/>
            <a:ext cx="7885080" cy="669960"/>
            <a:chOff x="431640" y="1500120"/>
            <a:chExt cx="7885080" cy="669960"/>
          </a:xfrm>
        </p:grpSpPr>
        <p:pic>
          <p:nvPicPr>
            <p:cNvPr id="93" name="Picture 35" descr="발표순서바"/>
            <p:cNvPicPr/>
            <p:nvPr/>
          </p:nvPicPr>
          <p:blipFill>
            <a:blip r:embed="rId1"/>
            <a:stretch/>
          </p:blipFill>
          <p:spPr>
            <a:xfrm>
              <a:off x="431640" y="1500120"/>
              <a:ext cx="78850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36"/>
            <p:cNvSpPr/>
            <p:nvPr/>
          </p:nvSpPr>
          <p:spPr>
            <a:xfrm>
              <a:off x="1864800" y="1641960"/>
              <a:ext cx="2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95" name="WordArt 45"/>
          <p:cNvSpPr txBox="1"/>
          <p:nvPr/>
        </p:nvSpPr>
        <p:spPr>
          <a:xfrm>
            <a:off x="611280" y="260280"/>
            <a:ext cx="1157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56"/>
              </a:avLst>
            </a:prstTxWarp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HY헤드라인M"/>
              </a:rPr>
              <a:t>목 차</a:t>
            </a:r>
            <a:endParaRPr b="1" lang="en-US" sz="40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1874880" y="2260440"/>
            <a:ext cx="1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97" name="Group 29"/>
          <p:cNvGrpSpPr/>
          <p:nvPr/>
        </p:nvGrpSpPr>
        <p:grpSpPr>
          <a:xfrm>
            <a:off x="468360" y="4567320"/>
            <a:ext cx="7848360" cy="647640"/>
            <a:chOff x="468360" y="4567320"/>
            <a:chExt cx="7848360" cy="647640"/>
          </a:xfrm>
        </p:grpSpPr>
        <p:pic>
          <p:nvPicPr>
            <p:cNvPr id="98" name="Picture 35" descr="발표순서바"/>
            <p:cNvPicPr/>
            <p:nvPr/>
          </p:nvPicPr>
          <p:blipFill>
            <a:blip r:embed="rId2"/>
            <a:stretch/>
          </p:blipFill>
          <p:spPr>
            <a:xfrm>
              <a:off x="468360" y="4567320"/>
              <a:ext cx="7848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36"/>
            <p:cNvSpPr/>
            <p:nvPr/>
          </p:nvSpPr>
          <p:spPr>
            <a:xfrm>
              <a:off x="1908000" y="4696200"/>
              <a:ext cx="4075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사업계획서 작성시 유의사항</a:t>
              </a:r>
              <a:endParaRPr b="0" lang="en-US" sz="26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00" name="Group 33"/>
          <p:cNvGrpSpPr/>
          <p:nvPr/>
        </p:nvGrpSpPr>
        <p:grpSpPr>
          <a:xfrm>
            <a:off x="468360" y="3560760"/>
            <a:ext cx="7867440" cy="628560"/>
            <a:chOff x="468360" y="3560760"/>
            <a:chExt cx="7867440" cy="628560"/>
          </a:xfrm>
        </p:grpSpPr>
        <p:pic>
          <p:nvPicPr>
            <p:cNvPr id="101" name="Picture 35" descr="발표순서바"/>
            <p:cNvPicPr/>
            <p:nvPr/>
          </p:nvPicPr>
          <p:blipFill>
            <a:blip r:embed="rId3"/>
            <a:stretch/>
          </p:blipFill>
          <p:spPr>
            <a:xfrm>
              <a:off x="468360" y="3560760"/>
              <a:ext cx="78674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36"/>
            <p:cNvSpPr/>
            <p:nvPr/>
          </p:nvSpPr>
          <p:spPr>
            <a:xfrm>
              <a:off x="1810080" y="3633840"/>
              <a:ext cx="3679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신청서 제출시 유의사항</a:t>
              </a:r>
              <a:endParaRPr b="0" lang="en-US" sz="26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441360" y="2481120"/>
            <a:ext cx="7885080" cy="647640"/>
            <a:chOff x="441360" y="2481120"/>
            <a:chExt cx="7885080" cy="647640"/>
          </a:xfrm>
        </p:grpSpPr>
        <p:pic>
          <p:nvPicPr>
            <p:cNvPr id="104" name="Picture 35" descr="발표순서바"/>
            <p:cNvPicPr/>
            <p:nvPr/>
          </p:nvPicPr>
          <p:blipFill>
            <a:blip r:embed="rId4"/>
            <a:stretch/>
          </p:blipFill>
          <p:spPr>
            <a:xfrm>
              <a:off x="441360" y="2481120"/>
              <a:ext cx="78850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36"/>
            <p:cNvSpPr/>
            <p:nvPr/>
          </p:nvSpPr>
          <p:spPr>
            <a:xfrm>
              <a:off x="2082600" y="2592360"/>
              <a:ext cx="5264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지역기반육성기술개발사업 신규지원 계획</a:t>
              </a:r>
              <a:endParaRPr b="0" lang="en-US" sz="26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106" name="Rectangle 36"/>
          <p:cNvSpPr/>
          <p:nvPr/>
        </p:nvSpPr>
        <p:spPr>
          <a:xfrm>
            <a:off x="1945440" y="1686240"/>
            <a:ext cx="4782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지역기반육성기술개발사업 일반사항</a:t>
            </a:r>
            <a:endParaRPr b="0" lang="en-US" sz="2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07" name="Rectangle 37"/>
          <p:cNvSpPr/>
          <p:nvPr/>
        </p:nvSpPr>
        <p:spPr>
          <a:xfrm>
            <a:off x="21960" y="4696560"/>
            <a:ext cx="190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35280" y="3697200"/>
            <a:ext cx="19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09" name="Rectangle 37"/>
          <p:cNvSpPr/>
          <p:nvPr/>
        </p:nvSpPr>
        <p:spPr>
          <a:xfrm>
            <a:off x="20880" y="2552760"/>
            <a:ext cx="1805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10" name="Rectangle 41"/>
          <p:cNvSpPr/>
          <p:nvPr/>
        </p:nvSpPr>
        <p:spPr>
          <a:xfrm>
            <a:off x="93240" y="1649520"/>
            <a:ext cx="166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III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신청서 제출 유의사항</a:t>
            </a:r>
            <a:endParaRPr b="0" lang="en-US" sz="3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1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2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4" name="AutoShape 1077"/>
          <p:cNvSpPr/>
          <p:nvPr/>
        </p:nvSpPr>
        <p:spPr>
          <a:xfrm>
            <a:off x="714240" y="1943280"/>
            <a:ext cx="7715520" cy="4414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반드시 동 사업계획서 서식을 사용하여 제출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의 경우 웹하드에 등록한 양식을 출력하여 표지에만 날인함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사업계획서는 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A4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용지를 사용하여 작성하고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쪽번호를 기입하고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링 처리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제본 또는 책자로 제출하지 말 것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전산자료 제출 방법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HY헤드라인M"/>
                <a:hlinkClick r:id="rId1"/>
              </a:rPr>
              <a:t>http://gnria.webhard.co.kr</a:t>
            </a:r>
            <a:r>
              <a:rPr b="0" lang="en-US" sz="1600" spc="-1" strike="noStrike">
                <a:solidFill>
                  <a:srgbClr val="ff0066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에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엑셀양식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를 업로드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반드시 주관기관명으로 저장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cc"/>
                </a:solidFill>
                <a:latin typeface="HY헤드라인M"/>
              </a:rPr>
              <a:t>하늘나라</a:t>
            </a:r>
            <a:r>
              <a:rPr b="0" lang="en-US" sz="1600" spc="-1" strike="noStrike">
                <a:solidFill>
                  <a:srgbClr val="0000cc"/>
                </a:solidFill>
                <a:latin typeface="HY헤드라인M"/>
              </a:rPr>
              <a:t>_</a:t>
            </a:r>
            <a:r>
              <a:rPr b="0" lang="ko-KR" sz="1600" spc="-1" strike="noStrike">
                <a:solidFill>
                  <a:srgbClr val="0000cc"/>
                </a:solidFill>
                <a:latin typeface="HY헤드라인M"/>
              </a:rPr>
              <a:t>사업계획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과제번호는 접수시 부여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제출된 서류 및 사업계획서가 허위이거나 거짓인 경우 관련 규정에 의거 선정 취소  및 협약 해약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자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대표자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총괄책임자 등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는 채무불이행 등 신용조회에 동의한 것으로 간주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경남테크노파크 홈페이지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HY헤드라인M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HY헤드라인M"/>
                <a:hlinkClick r:id="rId3"/>
              </a:rPr>
              <a:t>www.gntp.or.kr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에서 양식 다운로드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6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324000" y="1411200"/>
            <a:ext cx="4104720" cy="814320"/>
            <a:chOff x="324000" y="1411200"/>
            <a:chExt cx="4104720" cy="814320"/>
          </a:xfrm>
        </p:grpSpPr>
        <p:sp>
          <p:nvSpPr>
            <p:cNvPr id="448" name="Text Box 6"/>
            <p:cNvSpPr/>
            <p:nvPr/>
          </p:nvSpPr>
          <p:spPr>
            <a:xfrm>
              <a:off x="1042200" y="1859040"/>
              <a:ext cx="12308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449" name="Text Box 7"/>
            <p:cNvSpPr/>
            <p:nvPr/>
          </p:nvSpPr>
          <p:spPr>
            <a:xfrm>
              <a:off x="1042200" y="1785960"/>
              <a:ext cx="1590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450" name="Group 9"/>
            <p:cNvGrpSpPr/>
            <p:nvPr/>
          </p:nvGrpSpPr>
          <p:grpSpPr>
            <a:xfrm>
              <a:off x="631440" y="1411200"/>
              <a:ext cx="3797280" cy="576000"/>
              <a:chOff x="631440" y="1411200"/>
              <a:chExt cx="3797280" cy="576000"/>
            </a:xfrm>
          </p:grpSpPr>
          <p:pic>
            <p:nvPicPr>
              <p:cNvPr id="451" name="Picture 10" descr="13 박스"/>
              <p:cNvPicPr/>
              <p:nvPr/>
            </p:nvPicPr>
            <p:blipFill>
              <a:blip r:embed="rId4"/>
              <a:srcRect l="72555" t="45512" r="2866" b="32919"/>
              <a:stretch/>
            </p:blipFill>
            <p:spPr>
              <a:xfrm>
                <a:off x="631440" y="1411200"/>
                <a:ext cx="379728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Text Box 2144"/>
              <p:cNvSpPr/>
              <p:nvPr/>
            </p:nvSpPr>
            <p:spPr>
              <a:xfrm>
                <a:off x="1057320" y="1437120"/>
                <a:ext cx="28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유의 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53" name="Picture 4" descr="2"/>
            <p:cNvPicPr/>
            <p:nvPr/>
          </p:nvPicPr>
          <p:blipFill>
            <a:blip r:embed="rId5"/>
            <a:srcRect l="56514" t="27691" r="39475" b="61574"/>
            <a:stretch/>
          </p:blipFill>
          <p:spPr>
            <a:xfrm>
              <a:off x="324000" y="1452600"/>
              <a:ext cx="36612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4" name="Group 33"/>
            <p:cNvGrpSpPr/>
            <p:nvPr/>
          </p:nvGrpSpPr>
          <p:grpSpPr>
            <a:xfrm>
              <a:off x="415440" y="1522440"/>
              <a:ext cx="237240" cy="468000"/>
              <a:chOff x="415440" y="1522440"/>
              <a:chExt cx="237240" cy="468000"/>
            </a:xfrm>
          </p:grpSpPr>
          <p:grpSp>
            <p:nvGrpSpPr>
              <p:cNvPr id="455" name="Group 34"/>
              <p:cNvGrpSpPr/>
              <p:nvPr/>
            </p:nvGrpSpPr>
            <p:grpSpPr>
              <a:xfrm>
                <a:off x="415440" y="1522440"/>
                <a:ext cx="237240" cy="304920"/>
                <a:chOff x="415440" y="1522440"/>
                <a:chExt cx="237240" cy="304920"/>
              </a:xfrm>
            </p:grpSpPr>
            <p:sp>
              <p:nvSpPr>
                <p:cNvPr id="456" name="Oval 35"/>
                <p:cNvSpPr/>
                <p:nvPr/>
              </p:nvSpPr>
              <p:spPr>
                <a:xfrm>
                  <a:off x="415440" y="1522440"/>
                  <a:ext cx="23724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57" name="Oval 36"/>
                <p:cNvSpPr/>
                <p:nvPr/>
              </p:nvSpPr>
              <p:spPr>
                <a:xfrm>
                  <a:off x="426240" y="1537920"/>
                  <a:ext cx="21996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58" name="Oval 37"/>
                <p:cNvSpPr/>
                <p:nvPr/>
              </p:nvSpPr>
              <p:spPr>
                <a:xfrm>
                  <a:off x="453960" y="1537920"/>
                  <a:ext cx="1677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59" name="Rectangle 38"/>
              <p:cNvSpPr/>
              <p:nvPr/>
            </p:nvSpPr>
            <p:spPr>
              <a:xfrm>
                <a:off x="430560" y="1533600"/>
                <a:ext cx="1173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61" name="AutoShape 1077"/>
          <p:cNvSpPr/>
          <p:nvPr/>
        </p:nvSpPr>
        <p:spPr>
          <a:xfrm>
            <a:off x="468360" y="2060640"/>
            <a:ext cx="8207280" cy="5047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1" lang="ko-KR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HY헤드라인M"/>
              </a:rPr>
              <a:t>http://gnria.webhard.co.kr</a:t>
            </a:r>
            <a:r>
              <a:rPr b="1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1" lang="ko-KR" sz="1400" spc="-1" strike="noStrike">
                <a:solidFill>
                  <a:srgbClr val="0066ff"/>
                </a:solidFill>
                <a:latin typeface="HY헤드라인M"/>
              </a:rPr>
              <a:t>사이트에서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아이디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: gnria06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패스워드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: 9876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로 로그인</a:t>
            </a:r>
            <a:r>
              <a:rPr b="0" lang="en-US" sz="2000" spc="-1" strike="noStrike">
                <a:solidFill>
                  <a:srgbClr val="0066ff"/>
                </a:solidFill>
                <a:latin typeface="HY헤드라인M"/>
              </a:rPr>
              <a:t> 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63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464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465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466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467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69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0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471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472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73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74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75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476" name="Picture 19" descr="웹하드_표지"/>
          <p:cNvPicPr/>
          <p:nvPr/>
        </p:nvPicPr>
        <p:blipFill>
          <a:blip r:embed="rId3"/>
          <a:stretch/>
        </p:blipFill>
        <p:spPr>
          <a:xfrm>
            <a:off x="468360" y="2708280"/>
            <a:ext cx="8136000" cy="36273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79" name="AutoShape 1077"/>
          <p:cNvSpPr/>
          <p:nvPr/>
        </p:nvSpPr>
        <p:spPr>
          <a:xfrm>
            <a:off x="468360" y="2060640"/>
            <a:ext cx="8207280" cy="42973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내리기전용 폴더에서 </a:t>
            </a:r>
            <a:r>
              <a:rPr b="0" lang="ko-KR" sz="14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지역기반육성기술개발사업 접수양식</a:t>
            </a:r>
            <a:r>
              <a:rPr b="0" lang="ko-KR" sz="14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 및 </a:t>
            </a:r>
            <a:r>
              <a:rPr b="0" lang="ko-KR" sz="14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기술개발사업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기반육성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요약서 양식</a:t>
            </a:r>
            <a:r>
              <a:rPr b="0" lang="ko-KR" sz="14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을 다운받아서 작성 한 후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,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HY헤드라인M"/>
              </a:rPr>
              <a:t> 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81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482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483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484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48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8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489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490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91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92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93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494" name="Picture 20" descr="EMB00000c303e07"/>
          <p:cNvPicPr/>
          <p:nvPr/>
        </p:nvPicPr>
        <p:blipFill>
          <a:blip r:embed="rId3"/>
          <a:stretch/>
        </p:blipFill>
        <p:spPr>
          <a:xfrm>
            <a:off x="684360" y="2997360"/>
            <a:ext cx="7920000" cy="331308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97" name="Picture 4" descr="웹하드_2"/>
          <p:cNvPicPr/>
          <p:nvPr/>
        </p:nvPicPr>
        <p:blipFill>
          <a:blip r:embed="rId1"/>
          <a:stretch/>
        </p:blipFill>
        <p:spPr>
          <a:xfrm>
            <a:off x="179280" y="1700280"/>
            <a:ext cx="8844120" cy="403380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요약서양식001"/>
          <p:cNvPicPr/>
          <p:nvPr/>
        </p:nvPicPr>
        <p:blipFill>
          <a:blip r:embed="rId1"/>
          <a:stretch/>
        </p:blipFill>
        <p:spPr>
          <a:xfrm>
            <a:off x="2036880" y="1125360"/>
            <a:ext cx="4120920" cy="532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01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503" name="Picture 4" descr="사본 -클립보드 이미지"/>
          <p:cNvPicPr/>
          <p:nvPr/>
        </p:nvPicPr>
        <p:blipFill>
          <a:blip r:embed="rId1"/>
          <a:stretch/>
        </p:blipFill>
        <p:spPr>
          <a:xfrm>
            <a:off x="179280" y="1125360"/>
            <a:ext cx="8820360" cy="52326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06" name="AutoShape 1077"/>
          <p:cNvSpPr/>
          <p:nvPr/>
        </p:nvSpPr>
        <p:spPr>
          <a:xfrm>
            <a:off x="714240" y="1943280"/>
            <a:ext cx="7715520" cy="4414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☞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올리기 전용 폴더에서 기술 분야별 폴더 방으로 올림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  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단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주의할 점은 </a:t>
            </a:r>
            <a:r>
              <a:rPr b="1" lang="ko-KR" sz="1400" spc="-1" strike="noStrike">
                <a:solidFill>
                  <a:srgbClr val="0066ff"/>
                </a:solidFill>
                <a:latin typeface="HY헤드라인M"/>
              </a:rPr>
              <a:t>파일명을 주관기관명으로 하여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 올림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07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08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509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10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11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512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14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5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516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517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18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19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20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521" name="Picture 21" descr="EMB00000c303e0f"/>
          <p:cNvPicPr/>
          <p:nvPr/>
        </p:nvPicPr>
        <p:blipFill>
          <a:blip r:embed="rId3"/>
          <a:stretch/>
        </p:blipFill>
        <p:spPr>
          <a:xfrm>
            <a:off x="900000" y="2637000"/>
            <a:ext cx="7345440" cy="34462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24" name="AutoShape 1077"/>
          <p:cNvSpPr/>
          <p:nvPr/>
        </p:nvSpPr>
        <p:spPr>
          <a:xfrm>
            <a:off x="714240" y="1943280"/>
            <a:ext cx="7715520" cy="4414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HY헤드라인M"/>
              </a:rPr>
              <a:t> 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26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527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28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29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530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32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3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534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535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36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37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38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539" name="Picture 21" descr="EMB00000c303e0a"/>
          <p:cNvPicPr/>
          <p:nvPr/>
        </p:nvPicPr>
        <p:blipFill>
          <a:blip r:embed="rId3"/>
          <a:stretch/>
        </p:blipFill>
        <p:spPr>
          <a:xfrm>
            <a:off x="900000" y="2133720"/>
            <a:ext cx="7272360" cy="4113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42" name="AutoShape 1077"/>
          <p:cNvSpPr/>
          <p:nvPr/>
        </p:nvSpPr>
        <p:spPr>
          <a:xfrm>
            <a:off x="714240" y="1943280"/>
            <a:ext cx="7715520" cy="4414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☞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올리기 전용 폴더에서 기술 분야별 폴더 방으로 올림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단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주의할 점은 </a:t>
            </a:r>
            <a:r>
              <a:rPr b="1" lang="ko-KR" sz="1400" spc="-1" strike="noStrike">
                <a:solidFill>
                  <a:srgbClr val="0066ff"/>
                </a:solidFill>
                <a:latin typeface="HY헤드라인M"/>
              </a:rPr>
              <a:t>파일명을 주관기관명으로 하여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 올림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44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545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46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47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54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5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1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552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553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54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55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56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557" name="Picture 21" descr="EMB00000c303e0f"/>
          <p:cNvPicPr/>
          <p:nvPr/>
        </p:nvPicPr>
        <p:blipFill>
          <a:blip r:embed="rId3"/>
          <a:stretch/>
        </p:blipFill>
        <p:spPr>
          <a:xfrm>
            <a:off x="900000" y="2637000"/>
            <a:ext cx="7345440" cy="34462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지역기반육성기술개발사업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일반사항</a:t>
            </a:r>
            <a:endParaRPr b="0" lang="en-US" sz="3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12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13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60" name="AutoShape 1077"/>
          <p:cNvSpPr/>
          <p:nvPr/>
        </p:nvSpPr>
        <p:spPr>
          <a:xfrm>
            <a:off x="714240" y="2157480"/>
            <a:ext cx="7715520" cy="407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원본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 및 사본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0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[CD 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매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]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 원본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 및 참여기업의 법인등기부 등본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법인인 경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및 사업자 등록증 사본 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참여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위탁기관대표의 참여의사 확인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기술료징수용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 및 참여기업의 공장등록증 사본 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영리법인인 경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및 참여기업의 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최근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2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개년도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08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년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,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09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년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[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회계감사보고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]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또는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[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결산재무제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] 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원본대조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(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해당기업에 한함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]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용조회 동의서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지역기반육성기술개발사업 신규과제 자기진단서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우대사항 증빙서류 포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62" name="Group 19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563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64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65" name="Group 22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566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신청서 제출 서류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68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570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571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72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73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74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575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77" name="AutoShape 1077"/>
          <p:cNvSpPr/>
          <p:nvPr/>
        </p:nvSpPr>
        <p:spPr>
          <a:xfrm>
            <a:off x="714240" y="2157480"/>
            <a:ext cx="7715520" cy="3863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◎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서 교부 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교부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0. 9. 9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목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0. 15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금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전산자료 제출 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0. 10. 11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월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0. 12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화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24:00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까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   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접수 마감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일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10. 12, 18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까지 전산입력 완료하여야 하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전산입력하지 않고 서류만 접수한 경우 반려함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접수 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0. 10. 13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수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0. 15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금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, 18:00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◎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서 접수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-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경남지역산업평가단 직접제출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우편접수 안 함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78" name="Group 8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579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80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81" name="Group 11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582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신청서 교부 및 접수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84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5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586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587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88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89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90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591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V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사업계획서 작성시 유의사항</a:t>
            </a:r>
            <a:endParaRPr b="0" lang="en-US" sz="3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94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901800" y="1447920"/>
            <a:ext cx="7848360" cy="4876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97" name="AutoShape 1077"/>
          <p:cNvSpPr/>
          <p:nvPr/>
        </p:nvSpPr>
        <p:spPr>
          <a:xfrm>
            <a:off x="714240" y="2133720"/>
            <a:ext cx="7572600" cy="41529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1071720" y="2292480"/>
            <a:ext cx="67863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목표 및 연구내용을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명확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하게 설정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1071720" y="2960640"/>
            <a:ext cx="6786360" cy="50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연구내용과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조화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되게 사업비를 구성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00" name="AutoShape 5"/>
          <p:cNvSpPr/>
          <p:nvPr/>
        </p:nvSpPr>
        <p:spPr>
          <a:xfrm>
            <a:off x="1071720" y="3629160"/>
            <a:ext cx="6759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국내외 경쟁 기술 및 기업과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차별화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(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우위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)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01" name="AutoShape 5"/>
          <p:cNvSpPr/>
          <p:nvPr/>
        </p:nvSpPr>
        <p:spPr>
          <a:xfrm>
            <a:off x="1071720" y="4289400"/>
            <a:ext cx="674496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시장규모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가격동향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수요처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관련 자료 제시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1071720" y="4938840"/>
            <a:ext cx="674496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그림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도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사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샘플 제시를 통한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가시적 내용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제시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1071720" y="5586480"/>
            <a:ext cx="6773760" cy="49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발표 및 질의응답시간 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30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내외 운영              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04" name="Group 21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05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06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07" name="Group 24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0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신청의 주요 고려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61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1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12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13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14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15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16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617" name="Picture 35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125360" y="242100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6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1125360" y="308772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7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1125360" y="377028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8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1116000" y="443232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9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1125360" y="5065560"/>
            <a:ext cx="289080" cy="2844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0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1125360" y="57150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25" name="AutoShape 1077"/>
          <p:cNvSpPr/>
          <p:nvPr/>
        </p:nvSpPr>
        <p:spPr>
          <a:xfrm>
            <a:off x="714240" y="2157480"/>
            <a:ext cx="7715520" cy="3929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26" name="그룹 25"/>
          <p:cNvGrpSpPr/>
          <p:nvPr/>
        </p:nvGrpSpPr>
        <p:grpSpPr>
          <a:xfrm>
            <a:off x="1071720" y="2362320"/>
            <a:ext cx="7143480" cy="3176640"/>
            <a:chOff x="1071720" y="2362320"/>
            <a:chExt cx="7143480" cy="3176640"/>
          </a:xfrm>
        </p:grpSpPr>
        <p:sp>
          <p:nvSpPr>
            <p:cNvPr id="627" name="Text Box 12"/>
            <p:cNvSpPr/>
            <p:nvPr/>
          </p:nvSpPr>
          <p:spPr>
            <a:xfrm>
              <a:off x="4140360" y="2362320"/>
              <a:ext cx="37447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28" name="그룹 24"/>
            <p:cNvGrpSpPr/>
            <p:nvPr/>
          </p:nvGrpSpPr>
          <p:grpSpPr>
            <a:xfrm>
              <a:off x="1071720" y="2657520"/>
              <a:ext cx="7143480" cy="2881440"/>
              <a:chOff x="1071720" y="2657520"/>
              <a:chExt cx="7143480" cy="2881440"/>
            </a:xfrm>
          </p:grpSpPr>
          <p:sp>
            <p:nvSpPr>
              <p:cNvPr id="629" name="Rectangle 11"/>
              <p:cNvSpPr/>
              <p:nvPr/>
            </p:nvSpPr>
            <p:spPr>
              <a:xfrm>
                <a:off x="2720520" y="2657520"/>
                <a:ext cx="3930480" cy="288144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50000">
                    <a:srgbClr val="ffd5d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30" name="AutoShape 15"/>
              <p:cNvSpPr/>
              <p:nvPr/>
            </p:nvSpPr>
            <p:spPr>
              <a:xfrm rot="16200000">
                <a:off x="3002400" y="3909240"/>
                <a:ext cx="619200" cy="5857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99ccff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31" name="Rectangle 16"/>
              <p:cNvSpPr/>
              <p:nvPr/>
            </p:nvSpPr>
            <p:spPr>
              <a:xfrm>
                <a:off x="107172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Lab.(Bench)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Scale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32" name="Rectangle 17"/>
              <p:cNvSpPr/>
              <p:nvPr/>
            </p:nvSpPr>
            <p:spPr>
              <a:xfrm>
                <a:off x="373392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33" name="Rectangle 18"/>
              <p:cNvSpPr/>
              <p:nvPr/>
            </p:nvSpPr>
            <p:spPr>
              <a:xfrm>
                <a:off x="633276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Mass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Production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34" name="AutoShape 19"/>
              <p:cNvSpPr/>
              <p:nvPr/>
            </p:nvSpPr>
            <p:spPr>
              <a:xfrm rot="16200000">
                <a:off x="5664600" y="3909240"/>
                <a:ext cx="619200" cy="5857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99ccff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35" name="Text Box 20"/>
              <p:cNvSpPr/>
              <p:nvPr/>
            </p:nvSpPr>
            <p:spPr>
              <a:xfrm>
                <a:off x="4113720" y="3826080"/>
                <a:ext cx="1092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P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i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lot</a:t>
                </a:r>
                <a:endParaRPr b="0" lang="en-US" sz="2800" spc="-1" strike="noStrike">
                  <a:solidFill>
                    <a:srgbClr val="0070c0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Scale</a:t>
                </a:r>
                <a:endParaRPr b="0" lang="en-US" sz="2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636" name="Text Box 21"/>
          <p:cNvSpPr/>
          <p:nvPr/>
        </p:nvSpPr>
        <p:spPr>
          <a:xfrm>
            <a:off x="3832200" y="293040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</a:rPr>
              <a:t>지원범위</a:t>
            </a:r>
            <a:endParaRPr b="0" lang="en-US" sz="2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37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38" name="Group 34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39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40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41" name="Group 24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42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3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기술개발의 일반적 지원범위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644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46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47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48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49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50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651" name="AutoShape 5"/>
          <p:cNvSpPr/>
          <p:nvPr/>
        </p:nvSpPr>
        <p:spPr>
          <a:xfrm>
            <a:off x="2987640" y="5078880"/>
            <a:ext cx="66672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논문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52" name="AutoShape 5"/>
          <p:cNvSpPr/>
          <p:nvPr/>
        </p:nvSpPr>
        <p:spPr>
          <a:xfrm>
            <a:off x="5580000" y="5078880"/>
            <a:ext cx="92412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101"/>
                </a:solidFill>
                <a:latin typeface="HY헤드라인M"/>
              </a:rPr>
              <a:t>사업화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53" name="AutoShape 5"/>
          <p:cNvSpPr/>
          <p:nvPr/>
        </p:nvSpPr>
        <p:spPr>
          <a:xfrm>
            <a:off x="3924360" y="5078880"/>
            <a:ext cx="140328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101"/>
                </a:solidFill>
                <a:latin typeface="HY헤드라인M"/>
              </a:rPr>
              <a:t>지적재산권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5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56" name="AutoShape 4"/>
          <p:cNvSpPr/>
          <p:nvPr/>
        </p:nvSpPr>
        <p:spPr>
          <a:xfrm>
            <a:off x="250920" y="1268280"/>
            <a:ext cx="853596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901800" y="1447920"/>
            <a:ext cx="7848360" cy="4876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58" name="AutoShape 1077"/>
          <p:cNvSpPr/>
          <p:nvPr/>
        </p:nvSpPr>
        <p:spPr>
          <a:xfrm>
            <a:off x="714240" y="2133720"/>
            <a:ext cx="7572600" cy="41529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59" name="Group 21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60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61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62" name="Group 24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63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경남 기술로드맵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665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6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67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68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69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70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71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graphicFrame>
        <p:nvGraphicFramePr>
          <p:cNvPr id="672" name=""/>
          <p:cNvGraphicFramePr/>
          <p:nvPr/>
        </p:nvGraphicFramePr>
        <p:xfrm>
          <a:off x="857160" y="2844720"/>
          <a:ext cx="7215120" cy="3460680"/>
        </p:xfrm>
        <a:graphic>
          <a:graphicData uri="http://schemas.openxmlformats.org/drawingml/2006/table">
            <a:tbl>
              <a:tblPr/>
              <a:tblGrid>
                <a:gridCol w="935280"/>
                <a:gridCol w="2004840"/>
                <a:gridCol w="2738520"/>
                <a:gridCol w="868320"/>
                <a:gridCol w="668160"/>
              </a:tblGrid>
              <a:tr h="511560"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전략산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세부기술분야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9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개 지역은 전략산업과 동일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기술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마크로로드맵 기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시작년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종료년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rowSpan="11"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지식기반 기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분류번호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S-13-1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선박분야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○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호화유람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최적 일반배치 설계기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복원성능해석 및 경량화 설계 기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인테리어 및 선실설계 기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전장 및 자동화 시스템 설계 기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여객선 건조 공법 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.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○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rctic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선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해양플랜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쇄빙 연구조사선의 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쇄빙 화물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Tanker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의 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쇄빙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LNG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운반선 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NSR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쇄빙조사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.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AutoShape 5"/>
          <p:cNvSpPr/>
          <p:nvPr/>
        </p:nvSpPr>
        <p:spPr>
          <a:xfrm>
            <a:off x="1071720" y="2292480"/>
            <a:ext cx="3429000" cy="35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경남 기술로드맵 참조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674" name="Picture 35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125360" y="2357280"/>
            <a:ext cx="28908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156000" y="1483920"/>
            <a:ext cx="29876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http://rnd.risnet.or.k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77" name="Group 6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678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79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80" name="Group 9"/>
            <p:cNvGrpSpPr/>
            <p:nvPr/>
          </p:nvGrpSpPr>
          <p:grpSpPr>
            <a:xfrm>
              <a:off x="766080" y="1411200"/>
              <a:ext cx="5460840" cy="577440"/>
              <a:chOff x="766080" y="1411200"/>
              <a:chExt cx="5460840" cy="577440"/>
            </a:xfrm>
          </p:grpSpPr>
          <p:pic>
            <p:nvPicPr>
              <p:cNvPr id="681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2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종합관리시스템 </a:t>
                </a:r>
                <a:endParaRPr b="0" lang="en-US" sz="16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683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4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685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686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87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88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89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690" name="Picture 3" descr=""/>
          <p:cNvPicPr/>
          <p:nvPr/>
        </p:nvPicPr>
        <p:blipFill>
          <a:blip r:embed="rId3"/>
          <a:stretch/>
        </p:blipFill>
        <p:spPr>
          <a:xfrm>
            <a:off x="571680" y="2500200"/>
            <a:ext cx="812304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</p:pic>
      <p:sp>
        <p:nvSpPr>
          <p:cNvPr id="691" name="TextBox 19"/>
          <p:cNvSpPr/>
          <p:nvPr/>
        </p:nvSpPr>
        <p:spPr>
          <a:xfrm>
            <a:off x="1500120" y="2143080"/>
            <a:ext cx="5000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굴림"/>
                <a:ea typeface="굴림"/>
              </a:rPr>
              <a:t>종합자료실 </a:t>
            </a:r>
            <a:r>
              <a:rPr b="1" lang="en-US" sz="1600" spc="-1" strike="noStrike">
                <a:solidFill>
                  <a:srgbClr val="0000cc"/>
                </a:solidFill>
                <a:latin typeface="굴림"/>
                <a:ea typeface="굴림"/>
              </a:rPr>
              <a:t>-&gt; </a:t>
            </a:r>
            <a:r>
              <a:rPr b="1" lang="ko-KR" sz="1600" spc="-1" strike="noStrike">
                <a:solidFill>
                  <a:srgbClr val="0000cc"/>
                </a:solidFill>
                <a:latin typeface="굴림"/>
                <a:ea typeface="굴림"/>
              </a:rPr>
              <a:t>기술개발과제검색</a:t>
            </a:r>
            <a:r>
              <a:rPr b="1" lang="en-US" sz="1600" spc="-1" strike="noStrike">
                <a:solidFill>
                  <a:srgbClr val="0000cc"/>
                </a:solidFill>
                <a:latin typeface="굴림"/>
                <a:ea typeface="굴림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굴림"/>
                <a:ea typeface="굴림"/>
              </a:rPr>
              <a:t>-&gt; </a:t>
            </a:r>
            <a:r>
              <a:rPr b="1" lang="ko-KR" sz="1600" spc="-1" strike="noStrike">
                <a:solidFill>
                  <a:srgbClr val="0000cc"/>
                </a:solidFill>
                <a:latin typeface="굴림"/>
                <a:ea typeface="굴림"/>
              </a:rPr>
              <a:t>검색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156000" y="1483920"/>
            <a:ext cx="29876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http://rnd.risnet.or.k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94" name="Group 6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695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96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97" name="Group 9"/>
            <p:cNvGrpSpPr/>
            <p:nvPr/>
          </p:nvGrpSpPr>
          <p:grpSpPr>
            <a:xfrm>
              <a:off x="766080" y="1411200"/>
              <a:ext cx="5460840" cy="577440"/>
              <a:chOff x="766080" y="1411200"/>
              <a:chExt cx="5460840" cy="577440"/>
            </a:xfrm>
          </p:grpSpPr>
          <p:pic>
            <p:nvPicPr>
              <p:cNvPr id="69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종합관리시스템 </a:t>
                </a:r>
                <a:endParaRPr b="0" lang="en-US" sz="16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70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1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02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03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04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05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06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07" name="Picture 2" descr=""/>
          <p:cNvPicPr/>
          <p:nvPr/>
        </p:nvPicPr>
        <p:blipFill>
          <a:blip r:embed="rId3"/>
          <a:stretch/>
        </p:blipFill>
        <p:spPr>
          <a:xfrm>
            <a:off x="928800" y="2071800"/>
            <a:ext cx="7572240" cy="4276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</p:pic>
      <p:sp>
        <p:nvSpPr>
          <p:cNvPr id="708" name="직선 연결선 18"/>
          <p:cNvSpPr/>
          <p:nvPr/>
        </p:nvSpPr>
        <p:spPr>
          <a:xfrm>
            <a:off x="5786280" y="3143160"/>
            <a:ext cx="642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156000" y="1483920"/>
            <a:ext cx="29876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http://rndgate.ntis.go.k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711" name="Group 6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712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713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714" name="Group 9"/>
            <p:cNvGrpSpPr/>
            <p:nvPr/>
          </p:nvGrpSpPr>
          <p:grpSpPr>
            <a:xfrm>
              <a:off x="766080" y="1411200"/>
              <a:ext cx="5460840" cy="577440"/>
              <a:chOff x="766080" y="1411200"/>
              <a:chExt cx="5460840" cy="577440"/>
            </a:xfrm>
          </p:grpSpPr>
          <p:pic>
            <p:nvPicPr>
              <p:cNvPr id="71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국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R&amp;D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관리시스템 </a:t>
                </a:r>
                <a:endParaRPr b="0" lang="en-US" sz="16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71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8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19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20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21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22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23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24" name="Picture 21" descr="NTIS1"/>
          <p:cNvPicPr/>
          <p:nvPr/>
        </p:nvPicPr>
        <p:blipFill>
          <a:blip r:embed="rId3"/>
          <a:stretch/>
        </p:blipFill>
        <p:spPr>
          <a:xfrm>
            <a:off x="1116000" y="2205000"/>
            <a:ext cx="7201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21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726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727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766080" y="1411200"/>
              <a:ext cx="5460840" cy="576000"/>
              <a:chOff x="766080" y="1411200"/>
              <a:chExt cx="5460840" cy="576000"/>
            </a:xfrm>
          </p:grpSpPr>
          <p:pic>
            <p:nvPicPr>
              <p:cNvPr id="729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0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국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R&amp;D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관리시스템</a:t>
                </a:r>
                <a:endParaRPr b="0" lang="en-US" sz="16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731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2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33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34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35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36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37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38" name="Picture 18" descr="NTIS2"/>
          <p:cNvPicPr/>
          <p:nvPr/>
        </p:nvPicPr>
        <p:blipFill>
          <a:blip r:embed="rId3"/>
          <a:stretch/>
        </p:blipFill>
        <p:spPr>
          <a:xfrm>
            <a:off x="755640" y="2133720"/>
            <a:ext cx="7632720" cy="345600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15" name="AutoShape 50"/>
          <p:cNvSpPr/>
          <p:nvPr/>
        </p:nvSpPr>
        <p:spPr>
          <a:xfrm>
            <a:off x="611280" y="2060640"/>
            <a:ext cx="7921440" cy="4032360"/>
          </a:xfrm>
          <a:prstGeom prst="roundRect">
            <a:avLst>
              <a:gd name="adj" fmla="val 4324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ffffff">
                <a:alpha val="93000"/>
              </a:srgbClr>
            </a:solidFill>
            <a:miter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116" name="Picture 13" descr="13 박스"/>
          <p:cNvPicPr/>
          <p:nvPr/>
        </p:nvPicPr>
        <p:blipFill>
          <a:blip r:embed="rId1"/>
          <a:srcRect l="72870" t="67087" r="3020" b="15024"/>
          <a:stretch/>
        </p:blipFill>
        <p:spPr>
          <a:xfrm>
            <a:off x="1517760" y="3251160"/>
            <a:ext cx="2808000" cy="792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기반육성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118" name="Group 52"/>
          <p:cNvGrpSpPr/>
          <p:nvPr/>
        </p:nvGrpSpPr>
        <p:grpSpPr>
          <a:xfrm>
            <a:off x="324000" y="1282680"/>
            <a:ext cx="4043160" cy="652320"/>
            <a:chOff x="324000" y="1282680"/>
            <a:chExt cx="4043160" cy="652320"/>
          </a:xfrm>
        </p:grpSpPr>
        <p:grpSp>
          <p:nvGrpSpPr>
            <p:cNvPr id="119" name="Group 42"/>
            <p:cNvGrpSpPr/>
            <p:nvPr/>
          </p:nvGrpSpPr>
          <p:grpSpPr>
            <a:xfrm>
              <a:off x="755640" y="1282680"/>
              <a:ext cx="3611520" cy="576000"/>
              <a:chOff x="755640" y="1282680"/>
              <a:chExt cx="3611520" cy="576000"/>
            </a:xfrm>
          </p:grpSpPr>
          <p:pic>
            <p:nvPicPr>
              <p:cNvPr id="120" name="Picture 10" descr="13 박스"/>
              <p:cNvPicPr/>
              <p:nvPr/>
            </p:nvPicPr>
            <p:blipFill>
              <a:blip r:embed="rId2"/>
              <a:srcRect l="72555" t="45512" r="2866" b="32919"/>
              <a:stretch/>
            </p:blipFill>
            <p:spPr>
              <a:xfrm>
                <a:off x="755640" y="128268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 Box 2144"/>
              <p:cNvSpPr/>
              <p:nvPr/>
            </p:nvSpPr>
            <p:spPr>
              <a:xfrm>
                <a:off x="1160640" y="130860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추진체계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122" name="Picture 4" descr="2"/>
            <p:cNvPicPr/>
            <p:nvPr/>
          </p:nvPicPr>
          <p:blipFill>
            <a:blip r:embed="rId3"/>
            <a:srcRect l="56514" t="27691" r="39475" b="61574"/>
            <a:stretch/>
          </p:blipFill>
          <p:spPr>
            <a:xfrm>
              <a:off x="324000" y="132408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33"/>
            <p:cNvGrpSpPr/>
            <p:nvPr/>
          </p:nvGrpSpPr>
          <p:grpSpPr>
            <a:xfrm>
              <a:off x="452520" y="1393920"/>
              <a:ext cx="333360" cy="467640"/>
              <a:chOff x="452520" y="1393920"/>
              <a:chExt cx="333360" cy="467640"/>
            </a:xfrm>
          </p:grpSpPr>
          <p:grpSp>
            <p:nvGrpSpPr>
              <p:cNvPr id="124" name="Group 34"/>
              <p:cNvGrpSpPr/>
              <p:nvPr/>
            </p:nvGrpSpPr>
            <p:grpSpPr>
              <a:xfrm>
                <a:off x="452520" y="1393920"/>
                <a:ext cx="333360" cy="304560"/>
                <a:chOff x="452520" y="1393920"/>
                <a:chExt cx="333360" cy="304560"/>
              </a:xfrm>
            </p:grpSpPr>
            <p:sp>
              <p:nvSpPr>
                <p:cNvPr id="125" name="Oval 35"/>
                <p:cNvSpPr/>
                <p:nvPr/>
              </p:nvSpPr>
              <p:spPr>
                <a:xfrm>
                  <a:off x="452520" y="139392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126" name="Oval 36"/>
                <p:cNvSpPr/>
                <p:nvPr/>
              </p:nvSpPr>
              <p:spPr>
                <a:xfrm>
                  <a:off x="469440" y="140940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127" name="Oval 37"/>
                <p:cNvSpPr/>
                <p:nvPr/>
              </p:nvSpPr>
              <p:spPr>
                <a:xfrm>
                  <a:off x="507240" y="140940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128" name="Rectangle 38"/>
              <p:cNvSpPr/>
              <p:nvPr/>
            </p:nvSpPr>
            <p:spPr>
              <a:xfrm>
                <a:off x="473760" y="140508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129" name="Picture 13" descr="13 박스"/>
          <p:cNvPicPr/>
          <p:nvPr/>
        </p:nvPicPr>
        <p:blipFill>
          <a:blip r:embed="rId4"/>
          <a:srcRect l="72870" t="67087" r="3020" b="15024"/>
          <a:stretch/>
        </p:blipFill>
        <p:spPr>
          <a:xfrm>
            <a:off x="1763640" y="2203560"/>
            <a:ext cx="2262240" cy="792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144"/>
          <p:cNvSpPr/>
          <p:nvPr/>
        </p:nvSpPr>
        <p:spPr>
          <a:xfrm>
            <a:off x="1833480" y="23734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경상남도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131" name="Group 65"/>
          <p:cNvGrpSpPr/>
          <p:nvPr/>
        </p:nvGrpSpPr>
        <p:grpSpPr>
          <a:xfrm>
            <a:off x="5796000" y="3075120"/>
            <a:ext cx="2251080" cy="568080"/>
            <a:chOff x="5796000" y="3075120"/>
            <a:chExt cx="2251080" cy="568080"/>
          </a:xfrm>
        </p:grpSpPr>
        <p:pic>
          <p:nvPicPr>
            <p:cNvPr id="132" name="Picture 32" descr="13 박스"/>
            <p:cNvPicPr/>
            <p:nvPr/>
          </p:nvPicPr>
          <p:blipFill>
            <a:blip r:embed="rId5"/>
            <a:srcRect l="1909" t="67942" r="68736" b="23307"/>
            <a:stretch/>
          </p:blipFill>
          <p:spPr>
            <a:xfrm>
              <a:off x="5796000" y="3075120"/>
              <a:ext cx="22510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2144"/>
            <p:cNvSpPr/>
            <p:nvPr/>
          </p:nvSpPr>
          <p:spPr>
            <a:xfrm>
              <a:off x="5867280" y="321768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조정위원회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34" name="Group 66"/>
          <p:cNvGrpSpPr/>
          <p:nvPr/>
        </p:nvGrpSpPr>
        <p:grpSpPr>
          <a:xfrm>
            <a:off x="5819760" y="3575160"/>
            <a:ext cx="2251080" cy="568080"/>
            <a:chOff x="5819760" y="3575160"/>
            <a:chExt cx="2251080" cy="568080"/>
          </a:xfrm>
        </p:grpSpPr>
        <p:pic>
          <p:nvPicPr>
            <p:cNvPr id="135" name="Picture 32" descr="13 박스"/>
            <p:cNvPicPr/>
            <p:nvPr/>
          </p:nvPicPr>
          <p:blipFill>
            <a:blip r:embed="rId6"/>
            <a:srcRect l="1909" t="67942" r="68736" b="23307"/>
            <a:stretch/>
          </p:blipFill>
          <p:spPr>
            <a:xfrm>
              <a:off x="5819760" y="3575160"/>
              <a:ext cx="22510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144"/>
            <p:cNvSpPr/>
            <p:nvPr/>
          </p:nvSpPr>
          <p:spPr>
            <a:xfrm>
              <a:off x="5891040" y="371772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평가위원회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137" name="Text Box 2144"/>
          <p:cNvSpPr/>
          <p:nvPr/>
        </p:nvSpPr>
        <p:spPr>
          <a:xfrm>
            <a:off x="1692360" y="3429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평가단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138" name="Picture 7" descr="13 박스"/>
          <p:cNvPicPr/>
          <p:nvPr/>
        </p:nvPicPr>
        <p:blipFill>
          <a:blip r:embed="rId7"/>
          <a:srcRect l="72535" t="20535" r="2693" b="54493"/>
          <a:stretch/>
        </p:blipFill>
        <p:spPr>
          <a:xfrm>
            <a:off x="1965240" y="4338720"/>
            <a:ext cx="1943280" cy="603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144"/>
          <p:cNvSpPr/>
          <p:nvPr/>
        </p:nvSpPr>
        <p:spPr>
          <a:xfrm>
            <a:off x="1951200" y="445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주관기관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140" name="Group 91"/>
          <p:cNvGrpSpPr/>
          <p:nvPr/>
        </p:nvGrpSpPr>
        <p:grpSpPr>
          <a:xfrm>
            <a:off x="995400" y="5305320"/>
            <a:ext cx="1942920" cy="577800"/>
            <a:chOff x="995400" y="5305320"/>
            <a:chExt cx="1942920" cy="577800"/>
          </a:xfrm>
        </p:grpSpPr>
        <p:pic>
          <p:nvPicPr>
            <p:cNvPr id="141" name="Picture 7" descr="13 박스"/>
            <p:cNvPicPr/>
            <p:nvPr/>
          </p:nvPicPr>
          <p:blipFill>
            <a:blip r:embed="rId8"/>
            <a:srcRect l="72535" t="20535" r="2693" b="54493"/>
            <a:stretch/>
          </p:blipFill>
          <p:spPr>
            <a:xfrm>
              <a:off x="995400" y="5305320"/>
              <a:ext cx="19429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2144"/>
            <p:cNvSpPr/>
            <p:nvPr/>
          </p:nvSpPr>
          <p:spPr>
            <a:xfrm>
              <a:off x="1037880" y="53906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참여기업</a:t>
              </a:r>
              <a:endParaRPr b="0" lang="en-US" sz="20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43" name="Group 90"/>
          <p:cNvGrpSpPr/>
          <p:nvPr/>
        </p:nvGrpSpPr>
        <p:grpSpPr>
          <a:xfrm>
            <a:off x="2992320" y="5305320"/>
            <a:ext cx="1942920" cy="577800"/>
            <a:chOff x="2992320" y="5305320"/>
            <a:chExt cx="1942920" cy="577800"/>
          </a:xfrm>
        </p:grpSpPr>
        <p:pic>
          <p:nvPicPr>
            <p:cNvPr id="144" name="Picture 7" descr="13 박스"/>
            <p:cNvPicPr/>
            <p:nvPr/>
          </p:nvPicPr>
          <p:blipFill>
            <a:blip r:embed="rId9"/>
            <a:srcRect l="72535" t="20535" r="2693" b="54493"/>
            <a:stretch/>
          </p:blipFill>
          <p:spPr>
            <a:xfrm>
              <a:off x="2992320" y="5305320"/>
              <a:ext cx="19429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2144"/>
            <p:cNvSpPr/>
            <p:nvPr/>
          </p:nvSpPr>
          <p:spPr>
            <a:xfrm>
              <a:off x="3035160" y="53906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위탁기관</a:t>
              </a:r>
              <a:endParaRPr b="0" lang="en-US" sz="20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46" name="Group 96"/>
          <p:cNvGrpSpPr/>
          <p:nvPr/>
        </p:nvGrpSpPr>
        <p:grpSpPr>
          <a:xfrm>
            <a:off x="2916360" y="2923920"/>
            <a:ext cx="71280" cy="360360"/>
            <a:chOff x="2916360" y="2923920"/>
            <a:chExt cx="71280" cy="360360"/>
          </a:xfrm>
        </p:grpSpPr>
        <p:sp>
          <p:nvSpPr>
            <p:cNvPr id="147" name="AutoShape 58"/>
            <p:cNvSpPr/>
            <p:nvPr/>
          </p:nvSpPr>
          <p:spPr>
            <a:xfrm rot="16200000">
              <a:off x="2771640" y="3068280"/>
              <a:ext cx="36036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48" name="AutoShape 59"/>
            <p:cNvSpPr/>
            <p:nvPr/>
          </p:nvSpPr>
          <p:spPr>
            <a:xfrm rot="16200000">
              <a:off x="2766240" y="3082680"/>
              <a:ext cx="35424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49" name="Group 97"/>
          <p:cNvGrpSpPr/>
          <p:nvPr/>
        </p:nvGrpSpPr>
        <p:grpSpPr>
          <a:xfrm>
            <a:off x="2916360" y="4005000"/>
            <a:ext cx="71280" cy="315720"/>
            <a:chOff x="2916360" y="4005000"/>
            <a:chExt cx="71280" cy="315720"/>
          </a:xfrm>
        </p:grpSpPr>
        <p:sp>
          <p:nvSpPr>
            <p:cNvPr id="150" name="AutoShape 58"/>
            <p:cNvSpPr/>
            <p:nvPr/>
          </p:nvSpPr>
          <p:spPr>
            <a:xfrm rot="16200000">
              <a:off x="2793960" y="4127040"/>
              <a:ext cx="31572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51" name="AutoShape 59"/>
            <p:cNvSpPr/>
            <p:nvPr/>
          </p:nvSpPr>
          <p:spPr>
            <a:xfrm rot="16200000">
              <a:off x="2788200" y="4141440"/>
              <a:ext cx="31032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52" name="Group 100"/>
          <p:cNvGrpSpPr/>
          <p:nvPr/>
        </p:nvGrpSpPr>
        <p:grpSpPr>
          <a:xfrm>
            <a:off x="2916360" y="4944960"/>
            <a:ext cx="71280" cy="144720"/>
            <a:chOff x="2916360" y="4944960"/>
            <a:chExt cx="71280" cy="144720"/>
          </a:xfrm>
        </p:grpSpPr>
        <p:sp>
          <p:nvSpPr>
            <p:cNvPr id="153" name="AutoShape 58"/>
            <p:cNvSpPr/>
            <p:nvPr/>
          </p:nvSpPr>
          <p:spPr>
            <a:xfrm rot="16200000">
              <a:off x="2879640" y="4981680"/>
              <a:ext cx="14472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54" name="AutoShape 59"/>
            <p:cNvSpPr/>
            <p:nvPr/>
          </p:nvSpPr>
          <p:spPr>
            <a:xfrm rot="16200000">
              <a:off x="2872440" y="4996080"/>
              <a:ext cx="14220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55" name="Group 103"/>
          <p:cNvGrpSpPr/>
          <p:nvPr/>
        </p:nvGrpSpPr>
        <p:grpSpPr>
          <a:xfrm>
            <a:off x="2093760" y="5099040"/>
            <a:ext cx="1690920" cy="69840"/>
            <a:chOff x="2093760" y="5099040"/>
            <a:chExt cx="1690920" cy="69840"/>
          </a:xfrm>
        </p:grpSpPr>
        <p:sp>
          <p:nvSpPr>
            <p:cNvPr id="156" name="AutoShape 58"/>
            <p:cNvSpPr/>
            <p:nvPr/>
          </p:nvSpPr>
          <p:spPr>
            <a:xfrm>
              <a:off x="2093760" y="5099040"/>
              <a:ext cx="1690920" cy="698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57" name="AutoShape 59"/>
            <p:cNvSpPr/>
            <p:nvPr/>
          </p:nvSpPr>
          <p:spPr>
            <a:xfrm>
              <a:off x="2108520" y="5104800"/>
              <a:ext cx="1661400" cy="4212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58" name="Group 106"/>
          <p:cNvGrpSpPr/>
          <p:nvPr/>
        </p:nvGrpSpPr>
        <p:grpSpPr>
          <a:xfrm>
            <a:off x="2089080" y="5141520"/>
            <a:ext cx="71640" cy="144360"/>
            <a:chOff x="2089080" y="5141520"/>
            <a:chExt cx="71640" cy="144360"/>
          </a:xfrm>
        </p:grpSpPr>
        <p:sp>
          <p:nvSpPr>
            <p:cNvPr id="159" name="AutoShape 58"/>
            <p:cNvSpPr/>
            <p:nvPr/>
          </p:nvSpPr>
          <p:spPr>
            <a:xfrm rot="16200000">
              <a:off x="2052720" y="5177880"/>
              <a:ext cx="144360" cy="716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60" name="AutoShape 59"/>
            <p:cNvSpPr/>
            <p:nvPr/>
          </p:nvSpPr>
          <p:spPr>
            <a:xfrm rot="16200000">
              <a:off x="2045520" y="5192280"/>
              <a:ext cx="141840" cy="4320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61" name="Group 109"/>
          <p:cNvGrpSpPr/>
          <p:nvPr/>
        </p:nvGrpSpPr>
        <p:grpSpPr>
          <a:xfrm>
            <a:off x="3713040" y="5151240"/>
            <a:ext cx="71640" cy="144360"/>
            <a:chOff x="3713040" y="5151240"/>
            <a:chExt cx="71640" cy="144360"/>
          </a:xfrm>
        </p:grpSpPr>
        <p:sp>
          <p:nvSpPr>
            <p:cNvPr id="162" name="AutoShape 58"/>
            <p:cNvSpPr/>
            <p:nvPr/>
          </p:nvSpPr>
          <p:spPr>
            <a:xfrm rot="16200000">
              <a:off x="3676680" y="5187600"/>
              <a:ext cx="144360" cy="716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63" name="AutoShape 59"/>
            <p:cNvSpPr/>
            <p:nvPr/>
          </p:nvSpPr>
          <p:spPr>
            <a:xfrm rot="16200000">
              <a:off x="3669480" y="5202000"/>
              <a:ext cx="141840" cy="4320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64" name="Group 112"/>
          <p:cNvGrpSpPr/>
          <p:nvPr/>
        </p:nvGrpSpPr>
        <p:grpSpPr>
          <a:xfrm>
            <a:off x="4286160" y="3357720"/>
            <a:ext cx="1571760" cy="71280"/>
            <a:chOff x="4286160" y="3357720"/>
            <a:chExt cx="1571760" cy="71280"/>
          </a:xfrm>
        </p:grpSpPr>
        <p:sp>
          <p:nvSpPr>
            <p:cNvPr id="165" name="AutoShape 58"/>
            <p:cNvSpPr/>
            <p:nvPr/>
          </p:nvSpPr>
          <p:spPr>
            <a:xfrm flipV="1">
              <a:off x="4286160" y="3357720"/>
              <a:ext cx="157176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66" name="AutoShape 59"/>
            <p:cNvSpPr/>
            <p:nvPr/>
          </p:nvSpPr>
          <p:spPr>
            <a:xfrm flipV="1">
              <a:off x="4299840" y="3380040"/>
              <a:ext cx="154440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67" name="Group 115"/>
          <p:cNvGrpSpPr/>
          <p:nvPr/>
        </p:nvGrpSpPr>
        <p:grpSpPr>
          <a:xfrm>
            <a:off x="4284720" y="3830400"/>
            <a:ext cx="1582560" cy="73080"/>
            <a:chOff x="4284720" y="3830400"/>
            <a:chExt cx="1582560" cy="73080"/>
          </a:xfrm>
        </p:grpSpPr>
        <p:sp>
          <p:nvSpPr>
            <p:cNvPr id="168" name="AutoShape 58"/>
            <p:cNvSpPr/>
            <p:nvPr/>
          </p:nvSpPr>
          <p:spPr>
            <a:xfrm flipV="1">
              <a:off x="4284720" y="3830040"/>
              <a:ext cx="1582560" cy="730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69" name="AutoShape 59"/>
            <p:cNvSpPr/>
            <p:nvPr/>
          </p:nvSpPr>
          <p:spPr>
            <a:xfrm flipV="1">
              <a:off x="4298400" y="3852720"/>
              <a:ext cx="1554840" cy="4428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0" name=""/>
          <p:cNvGraphicFramePr/>
          <p:nvPr/>
        </p:nvGraphicFramePr>
        <p:xfrm>
          <a:off x="647640" y="2530440"/>
          <a:ext cx="7524720" cy="1558800"/>
        </p:xfrm>
        <a:graphic>
          <a:graphicData uri="http://schemas.openxmlformats.org/drawingml/2006/table">
            <a:tbl>
              <a:tblPr/>
              <a:tblGrid>
                <a:gridCol w="1847880"/>
                <a:gridCol w="2532240"/>
                <a:gridCol w="3144600"/>
              </a:tblGrid>
              <a:tr h="56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담당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락처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Email 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김현철 연구원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55-259-3403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kim@gntp.or.kr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홍정규 연구원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55-259-3404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rhjk@gntp.or.kr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1" name="Rectangle 37"/>
          <p:cNvSpPr/>
          <p:nvPr/>
        </p:nvSpPr>
        <p:spPr>
          <a:xfrm>
            <a:off x="469800" y="1442880"/>
            <a:ext cx="7112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○ 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업평가단 담당별 연락처</a:t>
            </a:r>
            <a:endParaRPr b="0" lang="en-US" sz="32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8" descr="감사_01"/>
          <p:cNvPicPr/>
          <p:nvPr/>
        </p:nvPicPr>
        <p:blipFill>
          <a:blip r:embed="rId1"/>
          <a:stretch/>
        </p:blipFill>
        <p:spPr>
          <a:xfrm>
            <a:off x="2340000" y="3213000"/>
            <a:ext cx="4629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71" name="AutoShape 1077"/>
          <p:cNvSpPr/>
          <p:nvPr/>
        </p:nvSpPr>
        <p:spPr>
          <a:xfrm>
            <a:off x="571680" y="2060640"/>
            <a:ext cx="8143560" cy="4226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72" name="Line 48"/>
          <p:cNvSpPr/>
          <p:nvPr/>
        </p:nvSpPr>
        <p:spPr>
          <a:xfrm>
            <a:off x="2602080" y="2637000"/>
            <a:ext cx="0" cy="3097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173" name="Group 37"/>
          <p:cNvGrpSpPr/>
          <p:nvPr/>
        </p:nvGrpSpPr>
        <p:grpSpPr>
          <a:xfrm>
            <a:off x="324000" y="1359000"/>
            <a:ext cx="4043160" cy="652320"/>
            <a:chOff x="324000" y="1359000"/>
            <a:chExt cx="4043160" cy="652320"/>
          </a:xfrm>
        </p:grpSpPr>
        <p:grpSp>
          <p:nvGrpSpPr>
            <p:cNvPr id="174" name="Group 38"/>
            <p:cNvGrpSpPr/>
            <p:nvPr/>
          </p:nvGrpSpPr>
          <p:grpSpPr>
            <a:xfrm>
              <a:off x="755640" y="1359000"/>
              <a:ext cx="3611520" cy="576000"/>
              <a:chOff x="755640" y="1359000"/>
              <a:chExt cx="3611520" cy="576000"/>
            </a:xfrm>
          </p:grpSpPr>
          <p:pic>
            <p:nvPicPr>
              <p:cNvPr id="17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5900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Text Box 2144"/>
              <p:cNvSpPr/>
              <p:nvPr/>
            </p:nvSpPr>
            <p:spPr>
              <a:xfrm>
                <a:off x="1160640" y="138492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추진절차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17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0040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" name="Group 33"/>
            <p:cNvGrpSpPr/>
            <p:nvPr/>
          </p:nvGrpSpPr>
          <p:grpSpPr>
            <a:xfrm>
              <a:off x="452520" y="1470240"/>
              <a:ext cx="333360" cy="467640"/>
              <a:chOff x="452520" y="1470240"/>
              <a:chExt cx="333360" cy="467640"/>
            </a:xfrm>
          </p:grpSpPr>
          <p:grpSp>
            <p:nvGrpSpPr>
              <p:cNvPr id="179" name="Group 34"/>
              <p:cNvGrpSpPr/>
              <p:nvPr/>
            </p:nvGrpSpPr>
            <p:grpSpPr>
              <a:xfrm>
                <a:off x="452520" y="1470240"/>
                <a:ext cx="333360" cy="304560"/>
                <a:chOff x="452520" y="1470240"/>
                <a:chExt cx="333360" cy="304560"/>
              </a:xfrm>
            </p:grpSpPr>
            <p:sp>
              <p:nvSpPr>
                <p:cNvPr id="180" name="Oval 35"/>
                <p:cNvSpPr/>
                <p:nvPr/>
              </p:nvSpPr>
              <p:spPr>
                <a:xfrm>
                  <a:off x="452520" y="147024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181" name="Oval 36"/>
                <p:cNvSpPr/>
                <p:nvPr/>
              </p:nvSpPr>
              <p:spPr>
                <a:xfrm>
                  <a:off x="469440" y="14857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182" name="Oval 37"/>
                <p:cNvSpPr/>
                <p:nvPr/>
              </p:nvSpPr>
              <p:spPr>
                <a:xfrm>
                  <a:off x="507240" y="148572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183" name="Rectangle 38"/>
              <p:cNvSpPr/>
              <p:nvPr/>
            </p:nvSpPr>
            <p:spPr>
              <a:xfrm>
                <a:off x="473760" y="148140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184" name="Rectangle 6"/>
          <p:cNvSpPr/>
          <p:nvPr/>
        </p:nvSpPr>
        <p:spPr>
          <a:xfrm>
            <a:off x="1209600" y="2249640"/>
            <a:ext cx="2786040" cy="3571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500" spc="-1" strike="noStrike">
                <a:solidFill>
                  <a:srgbClr val="040807"/>
                </a:solidFill>
                <a:latin typeface="HY헤드라인M"/>
              </a:rPr>
              <a:t>사업공고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09600" y="2743200"/>
            <a:ext cx="2786040" cy="33804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500" spc="-1" strike="noStrike">
                <a:solidFill>
                  <a:srgbClr val="040807"/>
                </a:solidFill>
                <a:latin typeface="HY헤드라인M"/>
              </a:rPr>
              <a:t>사업계획서 접수 및 평가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209600" y="3701880"/>
            <a:ext cx="2786040" cy="36540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협약체결 및 도비 지원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209600" y="3224160"/>
            <a:ext cx="2786040" cy="3142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과제 확정 및 통보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1209600" y="4300560"/>
            <a:ext cx="2786040" cy="3427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기술개발 수행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1209600" y="4857840"/>
            <a:ext cx="2786040" cy="3157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사업비정산 및 최종보고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1209600" y="5357880"/>
            <a:ext cx="2786040" cy="3571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기술료 징수 및 사후관리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4254480" y="2241720"/>
            <a:ext cx="3799080" cy="3380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신청자격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기술 등 공고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248000" y="2736720"/>
            <a:ext cx="3791160" cy="3524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평가위원회 구성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심의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기술성 및 사업성 평가</a:t>
            </a:r>
            <a:endParaRPr b="0" lang="en-US" sz="12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4254480" y="3255840"/>
            <a:ext cx="3790800" cy="30168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과제 경상남도 제출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검토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확정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4254480" y="4275000"/>
            <a:ext cx="3790800" cy="34632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협약내용 변경 신청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·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승인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4254480" y="3697200"/>
            <a:ext cx="3790800" cy="3272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총개발기간 일괄협약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4264200" y="4862520"/>
            <a:ext cx="379080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현장실사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/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평가위원회 평가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4264200" y="5369040"/>
            <a:ext cx="3790800" cy="32688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성공시 출연금의 </a:t>
            </a:r>
            <a:r>
              <a:rPr b="0" lang="en-US" sz="1400" spc="-1" strike="noStrike">
                <a:solidFill>
                  <a:srgbClr val="ff9900"/>
                </a:solidFill>
                <a:latin typeface="HY헤드라인M"/>
              </a:rPr>
              <a:t>20%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를 징수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8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기반육성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00" name="AutoShape 1077"/>
          <p:cNvSpPr/>
          <p:nvPr/>
        </p:nvSpPr>
        <p:spPr>
          <a:xfrm>
            <a:off x="673200" y="2266920"/>
            <a:ext cx="7931160" cy="10908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현장실태조사 실시 및 평가위원회 개최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인 내외의 산 </a:t>
            </a:r>
            <a:r>
              <a:rPr b="0" lang="en-US" sz="1800" spc="-1" strike="noStrike">
                <a:solidFill>
                  <a:srgbClr val="040807"/>
                </a:solidFill>
                <a:latin typeface="Arial"/>
              </a:rPr>
              <a:t>·</a:t>
            </a:r>
            <a:r>
              <a:rPr b="1" lang="ko-KR" sz="18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학 </a:t>
            </a:r>
            <a:r>
              <a:rPr b="0" lang="en-US" sz="1800" spc="-1" strike="noStrike">
                <a:solidFill>
                  <a:srgbClr val="040807"/>
                </a:solidFill>
                <a:latin typeface="Arial"/>
              </a:rPr>
              <a:t>·</a:t>
            </a:r>
            <a:r>
              <a:rPr b="1" lang="ko-KR" sz="18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연 전문가로 구성된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평가단 운영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201" name="Group 203"/>
          <p:cNvGrpSpPr/>
          <p:nvPr/>
        </p:nvGrpSpPr>
        <p:grpSpPr>
          <a:xfrm>
            <a:off x="808200" y="2039760"/>
            <a:ext cx="2170080" cy="450720"/>
            <a:chOff x="808200" y="2039760"/>
            <a:chExt cx="2170080" cy="450720"/>
          </a:xfrm>
        </p:grpSpPr>
        <p:sp>
          <p:nvSpPr>
            <p:cNvPr id="202" name="AutoShape 204"/>
            <p:cNvSpPr/>
            <p:nvPr/>
          </p:nvSpPr>
          <p:spPr>
            <a:xfrm>
              <a:off x="808200" y="2077920"/>
              <a:ext cx="2170080" cy="36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d80c9"/>
                </a:gs>
                <a:gs pos="100000">
                  <a:srgbClr val="184382"/>
                </a:gs>
              </a:gsLst>
              <a:lin ang="27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03" name="AutoShape 205"/>
            <p:cNvSpPr/>
            <p:nvPr/>
          </p:nvSpPr>
          <p:spPr>
            <a:xfrm>
              <a:off x="982080" y="2039760"/>
              <a:ext cx="1864800" cy="4507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HY헤드라인M"/>
                </a:rPr>
                <a:t>(1) </a:t>
              </a:r>
              <a:r>
                <a:rPr b="0" lang="ko-KR" sz="2000" spc="-1" strike="noStrike">
                  <a:solidFill>
                    <a:srgbClr val="ffff66"/>
                  </a:solidFill>
                  <a:latin typeface="HY헤드라인M"/>
                </a:rPr>
                <a:t>평가 및 선정</a:t>
              </a:r>
              <a:endParaRPr b="0" lang="en-US" sz="20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204" name="Group 15"/>
          <p:cNvGrpSpPr/>
          <p:nvPr/>
        </p:nvGrpSpPr>
        <p:grpSpPr>
          <a:xfrm>
            <a:off x="322200" y="1344600"/>
            <a:ext cx="4043160" cy="652320"/>
            <a:chOff x="322200" y="1344600"/>
            <a:chExt cx="4043160" cy="652320"/>
          </a:xfrm>
        </p:grpSpPr>
        <p:grpSp>
          <p:nvGrpSpPr>
            <p:cNvPr id="205" name="Group 16"/>
            <p:cNvGrpSpPr/>
            <p:nvPr/>
          </p:nvGrpSpPr>
          <p:grpSpPr>
            <a:xfrm>
              <a:off x="753840" y="1344600"/>
              <a:ext cx="3611520" cy="576000"/>
              <a:chOff x="753840" y="1344600"/>
              <a:chExt cx="3611520" cy="576000"/>
            </a:xfrm>
          </p:grpSpPr>
          <p:pic>
            <p:nvPicPr>
              <p:cNvPr id="206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3840" y="134460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2144"/>
              <p:cNvSpPr/>
              <p:nvPr/>
            </p:nvSpPr>
            <p:spPr>
              <a:xfrm>
                <a:off x="1158840" y="137052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세부절차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208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2200" y="138600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33"/>
            <p:cNvGrpSpPr/>
            <p:nvPr/>
          </p:nvGrpSpPr>
          <p:grpSpPr>
            <a:xfrm>
              <a:off x="450720" y="1455840"/>
              <a:ext cx="333360" cy="467640"/>
              <a:chOff x="450720" y="1455840"/>
              <a:chExt cx="333360" cy="467640"/>
            </a:xfrm>
          </p:grpSpPr>
          <p:grpSp>
            <p:nvGrpSpPr>
              <p:cNvPr id="210" name="Group 34"/>
              <p:cNvGrpSpPr/>
              <p:nvPr/>
            </p:nvGrpSpPr>
            <p:grpSpPr>
              <a:xfrm>
                <a:off x="450720" y="1455840"/>
                <a:ext cx="333360" cy="304560"/>
                <a:chOff x="450720" y="1455840"/>
                <a:chExt cx="333360" cy="304560"/>
              </a:xfrm>
            </p:grpSpPr>
            <p:sp>
              <p:nvSpPr>
                <p:cNvPr id="211" name="Oval 35"/>
                <p:cNvSpPr/>
                <p:nvPr/>
              </p:nvSpPr>
              <p:spPr>
                <a:xfrm>
                  <a:off x="450720" y="145584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212" name="Oval 36"/>
                <p:cNvSpPr/>
                <p:nvPr/>
              </p:nvSpPr>
              <p:spPr>
                <a:xfrm>
                  <a:off x="467640" y="14713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213" name="Oval 37"/>
                <p:cNvSpPr/>
                <p:nvPr/>
              </p:nvSpPr>
              <p:spPr>
                <a:xfrm>
                  <a:off x="505440" y="147132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214" name="Rectangle 38"/>
              <p:cNvSpPr/>
              <p:nvPr/>
            </p:nvSpPr>
            <p:spPr>
              <a:xfrm>
                <a:off x="471960" y="146700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215" name="Picture 38" descr="009----3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55640" y="271152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009----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5640" y="3060720"/>
            <a:ext cx="187200" cy="18720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1077"/>
          <p:cNvSpPr/>
          <p:nvPr/>
        </p:nvSpPr>
        <p:spPr>
          <a:xfrm>
            <a:off x="684360" y="4056120"/>
            <a:ext cx="7920000" cy="12445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평가위원회 결과를 바탕으로 조정위원회에서 조정 및 경상남도 최종 결정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지원대상과제 통보 및 협약체결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지역산업평가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단</a:t>
            </a:r>
            <a:r>
              <a:rPr b="0" lang="ko-KR" sz="2000" spc="-1" strike="noStrike">
                <a:solidFill>
                  <a:srgbClr val="0066ff"/>
                </a:solidFill>
                <a:latin typeface="HY헤드라인M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선정업체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18" name="AutoShape 204"/>
          <p:cNvSpPr/>
          <p:nvPr/>
        </p:nvSpPr>
        <p:spPr>
          <a:xfrm>
            <a:off x="819000" y="3867120"/>
            <a:ext cx="4329360" cy="370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d80c9"/>
              </a:gs>
              <a:gs pos="100000">
                <a:srgbClr val="184382"/>
              </a:gs>
            </a:gsLst>
            <a:lin ang="27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19" name="AutoShape 205"/>
          <p:cNvSpPr/>
          <p:nvPr/>
        </p:nvSpPr>
        <p:spPr>
          <a:xfrm>
            <a:off x="900000" y="3813120"/>
            <a:ext cx="3967200" cy="4510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HY헤드라인M"/>
              </a:rPr>
              <a:t>(2) </a:t>
            </a:r>
            <a:r>
              <a:rPr b="0" lang="ko-KR" sz="2000" spc="-1" strike="noStrike">
                <a:solidFill>
                  <a:srgbClr val="ffff66"/>
                </a:solidFill>
                <a:latin typeface="HY헤드라인M"/>
              </a:rPr>
              <a:t>지원대상과제 확정 및 협약체결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20" name="Picture 44" descr="009----3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785880" y="4386240"/>
            <a:ext cx="187200" cy="1872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기반육성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22" name="Picture 44" descr="009----3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785880" y="4762440"/>
            <a:ext cx="187200" cy="1875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0"/>
          <p:cNvSpPr/>
          <p:nvPr/>
        </p:nvSpPr>
        <p:spPr>
          <a:xfrm>
            <a:off x="6000840" y="4786200"/>
            <a:ext cx="431640" cy="73080"/>
          </a:xfrm>
          <a:prstGeom prst="leftRightArrow">
            <a:avLst>
              <a:gd name="adj1" fmla="val 50000"/>
              <a:gd name="adj2" fmla="val 117581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-10080" bIns="-10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25" name="AutoShape 1077"/>
          <p:cNvSpPr/>
          <p:nvPr/>
        </p:nvSpPr>
        <p:spPr>
          <a:xfrm>
            <a:off x="673200" y="1739880"/>
            <a:ext cx="7931160" cy="13557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목표달성도</a:t>
            </a:r>
            <a:r>
              <a:rPr b="0" lang="en-US" sz="18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기술성</a:t>
            </a:r>
            <a:r>
              <a:rPr b="0" lang="en-US" sz="18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사업성 및 경제성 등을 종합적으로 평가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평가등급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성공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우수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보통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실패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26" name="AutoShape 204"/>
          <p:cNvSpPr/>
          <p:nvPr/>
        </p:nvSpPr>
        <p:spPr>
          <a:xfrm>
            <a:off x="808200" y="1550880"/>
            <a:ext cx="2170080" cy="370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d80c9"/>
              </a:gs>
              <a:gs pos="100000">
                <a:srgbClr val="184382"/>
              </a:gs>
            </a:gsLst>
            <a:lin ang="27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27" name="AutoShape 205"/>
          <p:cNvSpPr/>
          <p:nvPr/>
        </p:nvSpPr>
        <p:spPr>
          <a:xfrm>
            <a:off x="755640" y="1512720"/>
            <a:ext cx="1863720" cy="4510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HY헤드라인M"/>
              </a:rPr>
              <a:t>(4) </a:t>
            </a:r>
            <a:r>
              <a:rPr b="0" lang="ko-KR" sz="2000" spc="-1" strike="noStrike">
                <a:solidFill>
                  <a:srgbClr val="ffff66"/>
                </a:solidFill>
                <a:latin typeface="HY헤드라인M"/>
              </a:rPr>
              <a:t>최종평가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28" name="Picture 19" descr="009----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55640" y="20829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0" descr="009----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55640" y="2428920"/>
            <a:ext cx="187200" cy="1872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077"/>
          <p:cNvSpPr/>
          <p:nvPr/>
        </p:nvSpPr>
        <p:spPr>
          <a:xfrm>
            <a:off x="684360" y="3457440"/>
            <a:ext cx="7920000" cy="27799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9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개발결과가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성공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으로 평가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도 출연금의 </a:t>
            </a:r>
            <a:r>
              <a:rPr b="0" lang="en-US" sz="1800" spc="-1" strike="noStrike">
                <a:solidFill>
                  <a:srgbClr val="ff9900"/>
                </a:solidFill>
                <a:latin typeface="HY헤드라인M"/>
              </a:rPr>
              <a:t>20%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를 상환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※ 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도 출연금이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1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억원일 경우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2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천만원을 정액 기술료로 상환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(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일시납 혹은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5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년분할납부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개발결과가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실패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로 평가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실패한 경우 참여제한 등의 제재와 정부출연금 환수 조치 등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※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제재 및 환수 분류 등급에 따라 처리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31" name="AutoShape 204"/>
          <p:cNvSpPr/>
          <p:nvPr/>
        </p:nvSpPr>
        <p:spPr>
          <a:xfrm>
            <a:off x="819000" y="3268800"/>
            <a:ext cx="2170440" cy="369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d80c9"/>
              </a:gs>
              <a:gs pos="100000">
                <a:srgbClr val="184382"/>
              </a:gs>
            </a:gsLst>
            <a:lin ang="27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32" name="AutoShape 205"/>
          <p:cNvSpPr/>
          <p:nvPr/>
        </p:nvSpPr>
        <p:spPr>
          <a:xfrm>
            <a:off x="898560" y="3230640"/>
            <a:ext cx="1863720" cy="4507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HY헤드라인M"/>
              </a:rPr>
              <a:t>(5) </a:t>
            </a:r>
            <a:r>
              <a:rPr b="0" lang="ko-KR" sz="2000" spc="-1" strike="noStrike">
                <a:solidFill>
                  <a:srgbClr val="ffff66"/>
                </a:solidFill>
                <a:latin typeface="HY헤드라인M"/>
              </a:rPr>
              <a:t>평가결과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33" name="Picture 29" descr="009----3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66800" y="39783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5" descr="009----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65000" y="5078520"/>
            <a:ext cx="187560" cy="1872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기반육성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144"/>
          <p:cNvSpPr/>
          <p:nvPr/>
        </p:nvSpPr>
        <p:spPr>
          <a:xfrm>
            <a:off x="755640" y="25002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I</a:t>
            </a:r>
            <a:r>
              <a:rPr b="1" lang="en-US" sz="32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200" spc="-1" strike="noStrike">
                <a:solidFill>
                  <a:srgbClr val="0066ff"/>
                </a:solidFill>
                <a:latin typeface="HY헤드라인M"/>
              </a:rPr>
              <a:t>지역기반육성기술개발사업 신규지원 계획</a:t>
            </a:r>
            <a:endParaRPr b="0" lang="en-US" sz="32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37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38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0" y="793800"/>
            <a:ext cx="8933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굴림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41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1" lang="en-US" sz="29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42" name="AutoShape 1077"/>
          <p:cNvSpPr/>
          <p:nvPr/>
        </p:nvSpPr>
        <p:spPr>
          <a:xfrm>
            <a:off x="673200" y="1565280"/>
            <a:ext cx="8002440" cy="799920"/>
          </a:xfrm>
          <a:prstGeom prst="roundRect">
            <a:avLst>
              <a:gd name="adj" fmla="val 21352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도내 신기술개발수요자에게 단기간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내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의 상품개발형 기술을 개발하도록 무담보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무이자의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기술개발자금을 지원하고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개발완료 후 성공시 도비지원금의 일부만을 상환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받는 사업임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43" name="AutoShape 1077"/>
          <p:cNvSpPr/>
          <p:nvPr/>
        </p:nvSpPr>
        <p:spPr>
          <a:xfrm>
            <a:off x="642960" y="2682720"/>
            <a:ext cx="8032680" cy="3603960"/>
          </a:xfrm>
          <a:prstGeom prst="roundRect">
            <a:avLst>
              <a:gd name="adj" fmla="val 3176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상기업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도내 소재 중소기업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상기술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의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4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 전략산업 범위 내에서 주관기관이 자유롭게 신청가능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기술분야별 지역산업기술개발지도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RTRM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는 설명회 책자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홈페이지 참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44" name="Picture 19" descr="009---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03440" y="1857240"/>
            <a:ext cx="172800" cy="16992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20"/>
          <p:cNvGrpSpPr/>
          <p:nvPr/>
        </p:nvGrpSpPr>
        <p:grpSpPr>
          <a:xfrm>
            <a:off x="684360" y="1357200"/>
            <a:ext cx="1655640" cy="425520"/>
            <a:chOff x="684360" y="1357200"/>
            <a:chExt cx="1655640" cy="425520"/>
          </a:xfrm>
        </p:grpSpPr>
        <p:sp>
          <p:nvSpPr>
            <p:cNvPr id="246" name="AutoShape 21"/>
            <p:cNvSpPr/>
            <p:nvPr/>
          </p:nvSpPr>
          <p:spPr>
            <a:xfrm>
              <a:off x="684360" y="135720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961920" y="136512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사업개요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248" name="Group 23"/>
          <p:cNvGrpSpPr/>
          <p:nvPr/>
        </p:nvGrpSpPr>
        <p:grpSpPr>
          <a:xfrm>
            <a:off x="714240" y="2500200"/>
            <a:ext cx="2857320" cy="478080"/>
            <a:chOff x="714240" y="2500200"/>
            <a:chExt cx="2857320" cy="478080"/>
          </a:xfrm>
        </p:grpSpPr>
        <p:sp>
          <p:nvSpPr>
            <p:cNvPr id="249" name="AutoShape 24"/>
            <p:cNvSpPr/>
            <p:nvPr/>
          </p:nvSpPr>
          <p:spPr>
            <a:xfrm>
              <a:off x="714240" y="2500200"/>
              <a:ext cx="2857320" cy="47808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857880" y="2538000"/>
              <a:ext cx="250056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지원대상  지역 및 기술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857160" y="3857760"/>
          <a:ext cx="7715520" cy="2358720"/>
        </p:xfrm>
        <a:graphic>
          <a:graphicData uri="http://schemas.openxmlformats.org/drawingml/2006/table">
            <a:tbl>
              <a:tblPr/>
              <a:tblGrid>
                <a:gridCol w="758880"/>
                <a:gridCol w="1098720"/>
                <a:gridCol w="5857920"/>
              </a:tblGrid>
              <a:tr h="293400"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지역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전략산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신규지원 대상기술 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971640">
                <a:tc rowSpan="4"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경남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휴먼명조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ff0066"/>
                          </a:solidFill>
                          <a:latin typeface="휴먼명조"/>
                        </a:rPr>
                        <a:t>약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휴먼명조"/>
                        </a:rPr>
                        <a:t>24</a:t>
                      </a:r>
                      <a:r>
                        <a:rPr b="1" lang="ko-KR" sz="1200" spc="-1" strike="noStrike">
                          <a:solidFill>
                            <a:srgbClr val="ff0066"/>
                          </a:solidFill>
                          <a:latin typeface="휴먼명조"/>
                        </a:rPr>
                        <a:t>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지식기반기계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특수선박 및 선박용 부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․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자재 기술 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메카트로닉스 유니트 및 시스템기술 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항공우주 산업 관련 핵심기술 등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정밀기기 및 계측기기의 핵심부품 및 시스템기술 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계산업 핵심부품 기술개발분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RT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분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로봇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자동차 및 일반기계분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조선 및 해양 산업분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장비산업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분야의 로봇기술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지능형홈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홈 시큐리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홈 오토메이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홈 네트워크 가전분야 기술 등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바이오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생물소재 및 생물건강 산업분야 산업화기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차세대 의생명 융합산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의료기기 분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술분야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53" name="Picture 19" descr="009---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23960" y="3081240"/>
            <a:ext cx="172800" cy="169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9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30080" y="3316320"/>
            <a:ext cx="173160" cy="1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5:18:27Z</dcterms:created>
  <dc:creator>LSC</dc:creator>
  <dc:description/>
  <dc:language>en-US</dc:language>
  <cp:lastModifiedBy>TCOM</cp:lastModifiedBy>
  <dcterms:modified xsi:type="dcterms:W3CDTF">2010-09-08T04:06:36Z</dcterms:modified>
  <cp:revision>930</cp:revision>
  <dc:subject/>
  <dc:title>슬라이드 1</dc:title>
</cp:coreProperties>
</file>